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E2AE-5EA8-4634-81CE-F6903D02540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Monotype Sorts"/>
                <a:ea typeface="Monotype Sorts"/>
              </a:rPr>
              <a:t>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ystem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, die Ergebnis einer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Monotype Sorts"/>
                <a:ea typeface="Monotype Sorts"/>
              </a:rPr>
              <a:t>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duktion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 Rahmen von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Monotype Sorts"/>
                <a:ea typeface="Monotype Sorts"/>
              </a:rPr>
              <a:t>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beit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d un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en </a:t>
            </a:r>
            <a:r>
              <a:rPr b="0" lang="de-DE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zess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n außen gesteuert werden oder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en 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Monotype Sorts"/>
                <a:ea typeface="Monotype Sorts"/>
              </a:rPr>
              <a:t>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lbst-Steuerung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on außen durch ein </a:t>
            </a:r>
            <a:r>
              <a:rPr b="0" lang="de-DE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ta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ystem vorgegeben ist oder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 denen die </a:t>
            </a:r>
            <a:r>
              <a:rPr b="0" lang="de-DE" sz="1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ränderung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ses Meta-Systems von außen gesteuert ist. Besser: steuerbar ist.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ollen nur beeinflußbar – jede Kontrolle steht unter einer Antizipation von Gegenkontrolle (LuhMann S. 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renze von Syste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-zerlegbare Elemente muessen nicht für SinnSyst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eine Festlegung auf hierarchische Strukturierung durch Einbettung, mehrere Perspektiven sind mög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odell-Definition einfügen und auf Komplexitätsreduktion eingeh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 Luhmann zu Selbstreferenz ab S. 57, Meta-Modelle in SeeMe: Zeigt die Elemente, die einen modellierten Sachverhalte konstiuie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nsysteme können die Relation zwischen Meta-System und System reflektie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tentielle Bezieh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lasse vs. Instantii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erhältnis System Umw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ntingente Interaktion vs Steu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ntingente Interaktion vs Steue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7A7-BCB5-49BE-A3A4-26247D7E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236-8201-4822-8B71-FA07D00F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A01D-E77D-474E-B040-6CC1077A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3E8-BADE-4125-9828-5DC3FF79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8E1E-952E-41F7-BB46-9DBD8F73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19280" y="431280"/>
            <a:ext cx="77724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D00B-E09D-4A52-9EDE-65686E15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33DE-0655-477F-8931-4CFDA18B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C11-C616-4722-A468-4047914D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E56-AD09-42C1-A4EC-7324F967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3B5D-2544-4FF5-A360-7E74FE3A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490F-FD26-4073-BF7A-5396283B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8272-CD53-4F41-85F7-52C80716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19280" y="431280"/>
            <a:ext cx="77724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40840" y="660240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6E26-0F70-45E7-99FD-A084A5D01F0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01600" y="349200"/>
            <a:ext cx="8699400" cy="6281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68120" y="6583320"/>
            <a:ext cx="247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Herrmann 24.10.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96920" y="92160"/>
            <a:ext cx="433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nalyse und Gestaltung sozio-technischer Syst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381880" y="0"/>
            <a:ext cx="462240" cy="324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01600" y="349200"/>
            <a:ext cx="8699400" cy="628956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391520" y="28440"/>
            <a:ext cx="838080" cy="544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2A2A-83FF-466C-90EA-9D5B952F66D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E:/Temp/TempInternetFiles/Temporary%20Internet%20Files/SeeMe/SeeMe-tutor.PPT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57720"/>
            <a:ext cx="8229600" cy="392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Analyse und Gestaltung sozio-technischer Systeme</a:t>
            </a:r>
            <a:br>
              <a:rPr sz="4800"/>
            </a:br>
            <a:br>
              <a:rPr sz="4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omas Herrmann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k und Gesellschaft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B Informatik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iversität Dortmund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undg.cs.uni-dortmund.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36560" y="1760400"/>
            <a:ext cx="7954920" cy="440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gebnis eines Konstruktions- und Produktionsprozesses --&gt; Artefa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euer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n auß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n innen durch Programm vorgeg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gegebene Steuerung der Adaption von Program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konstruierbare, reproduzierbare Abfolge von Zustandsänderungen (erwünsc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verschiedene Umgebungen transferier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hält keine sozialen Sub-Syst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Technische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60240" y="1365120"/>
            <a:ext cx="7772400" cy="418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ziale Systeme, in die technische Systeme als Sub-Systeme integriert s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technischen Systeme interagieren mit anderen Sub-Syst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chnische Systeme werden von den sozialen Sub-Systemen des umgebenden Systems gesteu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ziale (Sub-)Systeme interagieren miteinander, indem sie technischen Systeme nut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8080"/>
                </a:solidFill>
                <a:latin typeface="Arial"/>
              </a:rPr>
              <a:t>Soziale Systeme sind in technische integr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ozio-technische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0880" y="1517400"/>
            <a:ext cx="4572000" cy="1308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oll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erden von Personen oder Organisationseinheiten eingenommen und mit einer Menge von Rechten und Pflichten beschrie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1760" y="41544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Die Basis-Elemente einer sozio-technischen, semi-strukturierten Modellierungsmethode (</a:t>
            </a:r>
            <a:r>
              <a:rPr b="1" lang="de-DE" sz="3200" spc="-1" strike="noStrike">
                <a:solidFill>
                  <a:srgbClr val="0000cc"/>
                </a:solidFill>
                <a:latin typeface="Arial"/>
              </a:rPr>
              <a:t>SeeMe</a:t>
            </a: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5040" y="3057480"/>
            <a:ext cx="4603680" cy="10036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itä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werden von Rollen ausge-führt, in eine Reihenfolge gebracht und nutzen Entitäten oder manipulieren 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3840" y="4187880"/>
            <a:ext cx="4568760" cy="10036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tität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tellen den statischen Aspekt von Phänomenen dar (z.B. Objekte, Daten, techn. Syste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9720" y="5291280"/>
            <a:ext cx="4572000" cy="698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ch technische Sub-Systeme können Aktivitäten durchfüh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08160" y="4105440"/>
            <a:ext cx="1337760" cy="502920"/>
          </a:xfrm>
          <a:prstGeom prst="roundRect">
            <a:avLst>
              <a:gd name="adj" fmla="val 47569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vitä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905080" y="3265560"/>
            <a:ext cx="988920" cy="849240"/>
            <a:chOff x="5905080" y="3265560"/>
            <a:chExt cx="988920" cy="849240"/>
          </a:xfrm>
        </p:grpSpPr>
        <p:sp>
          <p:nvSpPr>
            <p:cNvPr id="188" name=""/>
            <p:cNvSpPr/>
            <p:nvPr/>
          </p:nvSpPr>
          <p:spPr>
            <a:xfrm>
              <a:off x="5905080" y="3265560"/>
              <a:ext cx="988920" cy="5130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Rol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91440" y="38098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171400" y="4648320"/>
            <a:ext cx="1220760" cy="904680"/>
            <a:chOff x="5171400" y="4648320"/>
            <a:chExt cx="1220760" cy="904680"/>
          </a:xfrm>
        </p:grpSpPr>
        <p:sp>
          <p:nvSpPr>
            <p:cNvPr id="191" name=""/>
            <p:cNvSpPr/>
            <p:nvPr/>
          </p:nvSpPr>
          <p:spPr>
            <a:xfrm>
              <a:off x="5171400" y="5189760"/>
              <a:ext cx="1220760" cy="36324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oku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0200" y="464832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467400" y="4572000"/>
            <a:ext cx="1533600" cy="1117080"/>
            <a:chOff x="6467400" y="4572000"/>
            <a:chExt cx="1533600" cy="1117080"/>
          </a:xfrm>
        </p:grpSpPr>
        <p:sp>
          <p:nvSpPr>
            <p:cNvPr id="194" name=""/>
            <p:cNvSpPr/>
            <p:nvPr/>
          </p:nvSpPr>
          <p:spPr>
            <a:xfrm>
              <a:off x="6931080" y="5051520"/>
              <a:ext cx="1069920" cy="63756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ech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yste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67400" y="4572000"/>
              <a:ext cx="4572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374960" y="4105440"/>
            <a:ext cx="1337760" cy="923760"/>
            <a:chOff x="7374960" y="4105440"/>
            <a:chExt cx="1337760" cy="923760"/>
          </a:xfrm>
        </p:grpSpPr>
        <p:sp>
          <p:nvSpPr>
            <p:cNvPr id="197" name=""/>
            <p:cNvSpPr/>
            <p:nvPr/>
          </p:nvSpPr>
          <p:spPr>
            <a:xfrm>
              <a:off x="7374960" y="4105440"/>
              <a:ext cx="1337760" cy="502920"/>
            </a:xfrm>
            <a:prstGeom prst="roundRect">
              <a:avLst>
                <a:gd name="adj" fmla="val 47569"/>
              </a:avLst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ktivität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457760" y="4572000"/>
              <a:ext cx="609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059600" y="4356000"/>
            <a:ext cx="322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Interaktion mit sozio-technischen Systemen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4760" y="5756400"/>
            <a:ext cx="4200480" cy="6987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nutzer interagieren mit solchen sozio-technischen Syst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5040" y="1157040"/>
            <a:ext cx="4603680" cy="4472640"/>
            <a:chOff x="365040" y="1157040"/>
            <a:chExt cx="4603680" cy="4472640"/>
          </a:xfrm>
        </p:grpSpPr>
        <p:sp>
          <p:nvSpPr>
            <p:cNvPr id="203" name=""/>
            <p:cNvSpPr/>
            <p:nvPr/>
          </p:nvSpPr>
          <p:spPr>
            <a:xfrm>
              <a:off x="380880" y="1157040"/>
              <a:ext cx="4572000" cy="13086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Rolle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werden von Personen oder Organisationseinheiten eingenommen und mit einer Menge von Rechten und Pflichten beschriebe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" y="2697120"/>
              <a:ext cx="4603680" cy="10036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Aktivitäte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werden von Rollen ausge-führt, in eine Reihenfolge gebracht und nutzen Entitäten oder manipulieren s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3840" y="3827520"/>
              <a:ext cx="4568760" cy="10036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ntitäte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stellen den statischen Aspekt von Phänomenen dar (z.B. Objekte, Daten, techn. System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9720" y="4930920"/>
              <a:ext cx="4267440" cy="69876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uch technische Sub-Systeme können Aktivitäten durchfüh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171400" y="3265560"/>
            <a:ext cx="3541320" cy="2423520"/>
            <a:chOff x="5171400" y="3265560"/>
            <a:chExt cx="3541320" cy="2423520"/>
          </a:xfrm>
        </p:grpSpPr>
        <p:sp>
          <p:nvSpPr>
            <p:cNvPr id="208" name=""/>
            <p:cNvSpPr/>
            <p:nvPr/>
          </p:nvSpPr>
          <p:spPr>
            <a:xfrm>
              <a:off x="5708160" y="4105440"/>
              <a:ext cx="1337760" cy="502920"/>
            </a:xfrm>
            <a:prstGeom prst="roundRect">
              <a:avLst>
                <a:gd name="adj" fmla="val 47569"/>
              </a:avLst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ktivität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5905080" y="3265560"/>
              <a:ext cx="988920" cy="849240"/>
              <a:chOff x="5905080" y="3265560"/>
              <a:chExt cx="988920" cy="849240"/>
            </a:xfrm>
          </p:grpSpPr>
          <p:sp>
            <p:nvSpPr>
              <p:cNvPr id="210" name=""/>
              <p:cNvSpPr/>
              <p:nvPr/>
            </p:nvSpPr>
            <p:spPr>
              <a:xfrm>
                <a:off x="5905080" y="3265560"/>
                <a:ext cx="988920" cy="513000"/>
              </a:xfrm>
              <a:prstGeom prst="ellipse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Roll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391440" y="380988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5171400" y="4648320"/>
              <a:ext cx="1220760" cy="904680"/>
              <a:chOff x="5171400" y="4648320"/>
              <a:chExt cx="1220760" cy="904680"/>
            </a:xfrm>
          </p:grpSpPr>
          <p:sp>
            <p:nvSpPr>
              <p:cNvPr id="213" name=""/>
              <p:cNvSpPr/>
              <p:nvPr/>
            </p:nvSpPr>
            <p:spPr>
              <a:xfrm>
                <a:off x="5171400" y="5189760"/>
                <a:ext cx="1220760" cy="363240"/>
              </a:xfrm>
              <a:prstGeom prst="rect">
                <a:avLst/>
              </a:prstGeom>
              <a:solidFill>
                <a:srgbClr val="66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Doku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010200" y="4648320"/>
                <a:ext cx="0" cy="53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6467400" y="4572000"/>
              <a:ext cx="1533600" cy="1117080"/>
              <a:chOff x="6467400" y="4572000"/>
              <a:chExt cx="1533600" cy="1117080"/>
            </a:xfrm>
          </p:grpSpPr>
          <p:sp>
            <p:nvSpPr>
              <p:cNvPr id="216" name=""/>
              <p:cNvSpPr/>
              <p:nvPr/>
            </p:nvSpPr>
            <p:spPr>
              <a:xfrm>
                <a:off x="6931080" y="5051520"/>
                <a:ext cx="1069920" cy="637560"/>
              </a:xfrm>
              <a:prstGeom prst="rect">
                <a:avLst/>
              </a:prstGeom>
              <a:solidFill>
                <a:srgbClr val="66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techn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Syste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67400" y="4572000"/>
                <a:ext cx="4572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7374960" y="4105440"/>
              <a:ext cx="1337760" cy="923760"/>
              <a:chOff x="7374960" y="4105440"/>
              <a:chExt cx="1337760" cy="923760"/>
            </a:xfrm>
          </p:grpSpPr>
          <p:sp>
            <p:nvSpPr>
              <p:cNvPr id="219" name=""/>
              <p:cNvSpPr/>
              <p:nvPr/>
            </p:nvSpPr>
            <p:spPr>
              <a:xfrm>
                <a:off x="7374960" y="4105440"/>
                <a:ext cx="1337760" cy="502920"/>
              </a:xfrm>
              <a:prstGeom prst="roundRect">
                <a:avLst>
                  <a:gd name="adj" fmla="val 47569"/>
                </a:avLst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Aktivität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7457760" y="4572000"/>
                <a:ext cx="60948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7059600" y="4356000"/>
              <a:ext cx="322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167440" y="3048120"/>
            <a:ext cx="3671640" cy="2895480"/>
          </a:xfrm>
          <a:prstGeom prst="rect">
            <a:avLst/>
          </a:prstGeom>
          <a:solidFill>
            <a:srgbClr val="66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05080" y="3265560"/>
            <a:ext cx="988920" cy="51300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09280" y="5175360"/>
            <a:ext cx="122076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ok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1080" y="5051520"/>
            <a:ext cx="1069920" cy="63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91440" y="38098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67400" y="4572000"/>
            <a:ext cx="45720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457760" y="4572000"/>
            <a:ext cx="60948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Interaktion mit sozio-technischen Systemen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170760" y="1971720"/>
            <a:ext cx="1523520" cy="1058760"/>
            <a:chOff x="6170760" y="1971720"/>
            <a:chExt cx="1523520" cy="1058760"/>
          </a:xfrm>
        </p:grpSpPr>
        <p:sp>
          <p:nvSpPr>
            <p:cNvPr id="231" name=""/>
            <p:cNvSpPr/>
            <p:nvPr/>
          </p:nvSpPr>
          <p:spPr>
            <a:xfrm>
              <a:off x="6999120" y="249696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70760" y="1971720"/>
              <a:ext cx="1523520" cy="502920"/>
            </a:xfrm>
            <a:prstGeom prst="roundRect">
              <a:avLst>
                <a:gd name="adj" fmla="val 47569"/>
              </a:avLst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teragie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219360" y="1208160"/>
            <a:ext cx="1547280" cy="772920"/>
            <a:chOff x="6219360" y="1208160"/>
            <a:chExt cx="1547280" cy="772920"/>
          </a:xfrm>
        </p:grpSpPr>
        <p:sp>
          <p:nvSpPr>
            <p:cNvPr id="234" name=""/>
            <p:cNvSpPr/>
            <p:nvPr/>
          </p:nvSpPr>
          <p:spPr>
            <a:xfrm>
              <a:off x="7010280" y="16765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19360" y="1208160"/>
              <a:ext cx="1547280" cy="5130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enutz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 flipV="1">
            <a:off x="5943600" y="464796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4760" y="5756400"/>
            <a:ext cx="4200480" cy="6987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nutzer interagieren mit solchen sozio-technischen Syst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5040" y="1157040"/>
            <a:ext cx="4603680" cy="4472640"/>
            <a:chOff x="365040" y="1157040"/>
            <a:chExt cx="4603680" cy="4472640"/>
          </a:xfrm>
        </p:grpSpPr>
        <p:sp>
          <p:nvSpPr>
            <p:cNvPr id="239" name=""/>
            <p:cNvSpPr/>
            <p:nvPr/>
          </p:nvSpPr>
          <p:spPr>
            <a:xfrm>
              <a:off x="380880" y="1157040"/>
              <a:ext cx="4572000" cy="13086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Rolle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werden von Personen oder Organisationseinheiten eingenommen und mit einer Menge von Rechten und Pflichten beschriebe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5040" y="2697120"/>
              <a:ext cx="4603680" cy="10036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Aktivitäte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werden von Rollen ausge-führt, in eine Reihenfolge gebracht und nutzen Entitäten oder manipulieren s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3840" y="3827520"/>
              <a:ext cx="4568760" cy="10036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ntitäte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stellen den statischen Aspekt von Phänomenen dar (z.B. Objekte, Daten, techn. System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9720" y="4930920"/>
              <a:ext cx="4267440" cy="69876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uch technische Sub-Systeme können Aktivitäten durchfüh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708160" y="4105440"/>
            <a:ext cx="3004560" cy="502920"/>
            <a:chOff x="5708160" y="4105440"/>
            <a:chExt cx="3004560" cy="502920"/>
          </a:xfrm>
        </p:grpSpPr>
        <p:sp>
          <p:nvSpPr>
            <p:cNvPr id="244" name=""/>
            <p:cNvSpPr/>
            <p:nvPr/>
          </p:nvSpPr>
          <p:spPr>
            <a:xfrm>
              <a:off x="5708160" y="4105440"/>
              <a:ext cx="1337760" cy="502920"/>
            </a:xfrm>
            <a:prstGeom prst="roundRect">
              <a:avLst>
                <a:gd name="adj" fmla="val 47569"/>
              </a:avLst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ktivität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74960" y="4105440"/>
              <a:ext cx="1337760" cy="502920"/>
            </a:xfrm>
            <a:prstGeom prst="roundRect">
              <a:avLst>
                <a:gd name="adj" fmla="val 47569"/>
              </a:avLst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ktivität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59600" y="4356000"/>
              <a:ext cx="322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19280" y="431640"/>
            <a:ext cx="7772400" cy="3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Basis-Elemente und Relationen in SeeMe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961200" y="1600200"/>
            <a:ext cx="7698600" cy="4053600"/>
            <a:chOff x="961200" y="1600200"/>
            <a:chExt cx="7698600" cy="4053600"/>
          </a:xfrm>
        </p:grpSpPr>
        <p:sp>
          <p:nvSpPr>
            <p:cNvPr id="249" name=""/>
            <p:cNvSpPr/>
            <p:nvPr/>
          </p:nvSpPr>
          <p:spPr>
            <a:xfrm>
              <a:off x="2796840" y="2798640"/>
              <a:ext cx="846720" cy="243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führt a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36560" y="2816280"/>
              <a:ext cx="1142280" cy="243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eeinflusst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87120" y="4527720"/>
              <a:ext cx="913680" cy="243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eränd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21440" y="4587840"/>
              <a:ext cx="1151640" cy="243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ird benutz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14120" y="5410080"/>
              <a:ext cx="1469880" cy="24372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ezieht sich au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6920" y="1600200"/>
              <a:ext cx="1544760" cy="4870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hat Erwartun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61200" y="3637080"/>
              <a:ext cx="631800" cy="4870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ehö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z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61440" y="3462480"/>
              <a:ext cx="1098360" cy="730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ird be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chrieb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ur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43800" y="3276720"/>
              <a:ext cx="1151640" cy="4870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ird gefolgt 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v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600200" y="1703520"/>
            <a:ext cx="5968800" cy="4403520"/>
            <a:chOff x="1600200" y="1703520"/>
            <a:chExt cx="5968800" cy="4403520"/>
          </a:xfrm>
        </p:grpSpPr>
        <p:sp>
          <p:nvSpPr>
            <p:cNvPr id="259" name=""/>
            <p:cNvSpPr/>
            <p:nvPr/>
          </p:nvSpPr>
          <p:spPr>
            <a:xfrm>
              <a:off x="1992240" y="1720800"/>
              <a:ext cx="1581120" cy="722520"/>
            </a:xfrm>
            <a:prstGeom prst="ellipse">
              <a:avLst/>
            </a:prstGeom>
            <a:solidFill>
              <a:srgbClr val="ff99cc"/>
            </a:solidFill>
            <a:ln w="18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Rolle 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84320" y="3441600"/>
              <a:ext cx="1577880" cy="824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ktivität 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82800" y="2444760"/>
              <a:ext cx="0" cy="9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5592600" y="1703520"/>
              <a:ext cx="1581480" cy="1743120"/>
              <a:chOff x="5592600" y="1703520"/>
              <a:chExt cx="1581480" cy="1743120"/>
            </a:xfrm>
          </p:grpSpPr>
          <p:sp>
            <p:nvSpPr>
              <p:cNvPr id="263" name=""/>
              <p:cNvSpPr/>
              <p:nvPr/>
            </p:nvSpPr>
            <p:spPr>
              <a:xfrm>
                <a:off x="5592600" y="1703520"/>
                <a:ext cx="1581480" cy="722160"/>
              </a:xfrm>
              <a:prstGeom prst="ellipse">
                <a:avLst/>
              </a:prstGeom>
              <a:solidFill>
                <a:srgbClr val="ff99cc"/>
              </a:solidFill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Rolle [2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6394320" y="2427120"/>
                <a:ext cx="0" cy="101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3571920" y="3441600"/>
              <a:ext cx="3616200" cy="824040"/>
              <a:chOff x="3571920" y="3441600"/>
              <a:chExt cx="3616200" cy="824040"/>
            </a:xfrm>
          </p:grpSpPr>
          <p:sp>
            <p:nvSpPr>
              <p:cNvPr id="266" name=""/>
              <p:cNvSpPr/>
              <p:nvPr/>
            </p:nvSpPr>
            <p:spPr>
              <a:xfrm>
                <a:off x="5610240" y="3441600"/>
                <a:ext cx="1577880" cy="8240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Aktivität [2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571920" y="3797280"/>
                <a:ext cx="2041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 flipV="1">
              <a:off x="3530520" y="5670360"/>
              <a:ext cx="2084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59320" y="2122560"/>
              <a:ext cx="2054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00200" y="2065320"/>
              <a:ext cx="406440" cy="3556080"/>
            </a:xfrm>
            <a:custGeom>
              <a:avLst/>
              <a:gdLst/>
              <a:ahLst/>
              <a:rect l="l" t="t" r="r" b="b"/>
              <a:pathLst>
                <a:path w="239" h="1581">
                  <a:moveTo>
                    <a:pt x="239" y="0"/>
                  </a:moveTo>
                  <a:lnTo>
                    <a:pt x="0" y="0"/>
                  </a:lnTo>
                  <a:lnTo>
                    <a:pt x="0" y="1581"/>
                  </a:lnTo>
                  <a:lnTo>
                    <a:pt x="210" y="158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984320" y="4262400"/>
              <a:ext cx="1565280" cy="1833480"/>
              <a:chOff x="1984320" y="4262400"/>
              <a:chExt cx="1565280" cy="1833480"/>
            </a:xfrm>
          </p:grpSpPr>
          <p:sp>
            <p:nvSpPr>
              <p:cNvPr id="272" name=""/>
              <p:cNvSpPr/>
              <p:nvPr/>
            </p:nvSpPr>
            <p:spPr>
              <a:xfrm>
                <a:off x="1984320" y="5259240"/>
                <a:ext cx="1565280" cy="836640"/>
              </a:xfrm>
              <a:prstGeom prst="rect">
                <a:avLst/>
              </a:prstGeom>
              <a:solidFill>
                <a:srgbClr val="66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Entität [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786040" y="4262400"/>
                <a:ext cx="0" cy="99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5610240" y="4230360"/>
              <a:ext cx="1566720" cy="1876680"/>
              <a:chOff x="5610240" y="4230360"/>
              <a:chExt cx="1566720" cy="1876680"/>
            </a:xfrm>
          </p:grpSpPr>
          <p:sp>
            <p:nvSpPr>
              <p:cNvPr id="275" name=""/>
              <p:cNvSpPr/>
              <p:nvPr/>
            </p:nvSpPr>
            <p:spPr>
              <a:xfrm>
                <a:off x="5610240" y="5270400"/>
                <a:ext cx="1566720" cy="836640"/>
              </a:xfrm>
              <a:prstGeom prst="rect">
                <a:avLst/>
              </a:prstGeom>
              <a:solidFill>
                <a:srgbClr val="66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Entität [2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6388200" y="4230360"/>
                <a:ext cx="0" cy="1028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rot="10800000">
              <a:off x="7162560" y="2057400"/>
              <a:ext cx="406440" cy="3557520"/>
            </a:xfrm>
            <a:custGeom>
              <a:avLst/>
              <a:gdLst/>
              <a:ahLst/>
              <a:rect l="l" t="t" r="r" b="b"/>
              <a:pathLst>
                <a:path w="239" h="1581">
                  <a:moveTo>
                    <a:pt x="239" y="0"/>
                  </a:moveTo>
                  <a:lnTo>
                    <a:pt x="0" y="0"/>
                  </a:lnTo>
                  <a:lnTo>
                    <a:pt x="0" y="1581"/>
                  </a:lnTo>
                  <a:lnTo>
                    <a:pt x="210" y="158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167440" y="3048120"/>
            <a:ext cx="3671640" cy="2895480"/>
          </a:xfrm>
          <a:prstGeom prst="rect">
            <a:avLst/>
          </a:prstGeom>
          <a:solidFill>
            <a:srgbClr val="66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08160" y="4105440"/>
            <a:ext cx="1337760" cy="502920"/>
          </a:xfrm>
          <a:prstGeom prst="roundRect">
            <a:avLst>
              <a:gd name="adj" fmla="val 47569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vität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09280" y="5175360"/>
            <a:ext cx="122076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ok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31080" y="5051520"/>
            <a:ext cx="1069920" cy="63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74960" y="4105440"/>
            <a:ext cx="1337760" cy="502920"/>
          </a:xfrm>
          <a:prstGeom prst="roundRect">
            <a:avLst>
              <a:gd name="adj" fmla="val 47569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vität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91440" y="38098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67400" y="4572000"/>
            <a:ext cx="45720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7457760" y="4572000"/>
            <a:ext cx="60948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pezielle Relationen bei Se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943600" y="464796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157040"/>
            <a:ext cx="4572000" cy="130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ressen von Rollen sind darstellbar. Sie werden an die Relationen annotiert, an deren Realisierung die Rolle interessiert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040" y="2697120"/>
            <a:ext cx="4603680" cy="100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ta-Relationen drücken aus, dass die Struktur eines modellierten Elementes verändert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589720" y="2611080"/>
            <a:ext cx="741240" cy="897120"/>
            <a:chOff x="5589720" y="2611080"/>
            <a:chExt cx="741240" cy="897120"/>
          </a:xfrm>
        </p:grpSpPr>
        <p:sp>
          <p:nvSpPr>
            <p:cNvPr id="291" name=""/>
            <p:cNvSpPr/>
            <p:nvPr/>
          </p:nvSpPr>
          <p:spPr>
            <a:xfrm rot="16200000">
              <a:off x="6079320" y="2610360"/>
              <a:ext cx="250920" cy="252360"/>
            </a:xfrm>
            <a:prstGeom prst="blockArc">
              <a:avLst>
                <a:gd name="adj1" fmla="val 10800000"/>
                <a:gd name="adj2" fmla="val 0"/>
                <a:gd name="adj3" fmla="val 4974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89720" y="2747880"/>
              <a:ext cx="479160" cy="760320"/>
            </a:xfrm>
            <a:custGeom>
              <a:avLst/>
              <a:gdLst/>
              <a:ahLst/>
              <a:rect l="l" t="t" r="r" b="b"/>
              <a:pathLst>
                <a:path w="302" h="472">
                  <a:moveTo>
                    <a:pt x="269" y="472"/>
                  </a:moveTo>
                  <a:lnTo>
                    <a:pt x="0" y="472"/>
                  </a:lnTo>
                  <a:lnTo>
                    <a:pt x="0" y="0"/>
                  </a:lnTo>
                  <a:lnTo>
                    <a:pt x="30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578640" y="1415880"/>
            <a:ext cx="2203560" cy="1622160"/>
            <a:chOff x="6578640" y="1415880"/>
            <a:chExt cx="2203560" cy="1622160"/>
          </a:xfrm>
        </p:grpSpPr>
        <p:sp>
          <p:nvSpPr>
            <p:cNvPr id="294" name=""/>
            <p:cNvSpPr/>
            <p:nvPr/>
          </p:nvSpPr>
          <p:spPr>
            <a:xfrm>
              <a:off x="6578640" y="1415880"/>
              <a:ext cx="1415880" cy="530280"/>
            </a:xfrm>
            <a:custGeom>
              <a:avLst/>
              <a:gdLst/>
              <a:ahLst/>
              <a:rect l="l" t="t" r="r" b="b"/>
              <a:pathLst>
                <a:path w="892" h="334">
                  <a:moveTo>
                    <a:pt x="0" y="0"/>
                  </a:moveTo>
                  <a:cubicBezTo>
                    <a:pt x="50" y="0"/>
                    <a:pt x="100" y="0"/>
                    <a:pt x="151" y="0"/>
                  </a:cubicBezTo>
                  <a:lnTo>
                    <a:pt x="892" y="0"/>
                  </a:lnTo>
                  <a:lnTo>
                    <a:pt x="892" y="3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09000" y="1940040"/>
              <a:ext cx="1573200" cy="502920"/>
            </a:xfrm>
            <a:prstGeom prst="roundRect">
              <a:avLst>
                <a:gd name="adj" fmla="val 47569"/>
              </a:avLst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pass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5245200">
              <a:off x="7755480" y="2669040"/>
              <a:ext cx="593640" cy="138240"/>
            </a:xfrm>
            <a:custGeom>
              <a:avLst/>
              <a:gdLst/>
              <a:ahLst/>
              <a:rect l="l" t="t" r="r" b="b"/>
              <a:pathLst>
                <a:path w="1275" h="163">
                  <a:moveTo>
                    <a:pt x="0" y="98"/>
                  </a:moveTo>
                  <a:lnTo>
                    <a:pt x="150" y="98"/>
                  </a:lnTo>
                  <a:lnTo>
                    <a:pt x="240" y="8"/>
                  </a:lnTo>
                  <a:lnTo>
                    <a:pt x="330" y="163"/>
                  </a:lnTo>
                  <a:lnTo>
                    <a:pt x="424" y="0"/>
                  </a:lnTo>
                  <a:lnTo>
                    <a:pt x="510" y="149"/>
                  </a:lnTo>
                  <a:lnTo>
                    <a:pt x="607" y="3"/>
                  </a:lnTo>
                  <a:lnTo>
                    <a:pt x="662" y="98"/>
                  </a:lnTo>
                  <a:lnTo>
                    <a:pt x="1275" y="9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208560" y="2435400"/>
            <a:ext cx="0" cy="596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07200" y="1783800"/>
            <a:ext cx="1520640" cy="882360"/>
          </a:xfrm>
          <a:prstGeom prst="roundRect">
            <a:avLst>
              <a:gd name="adj" fmla="val 47569"/>
            </a:avLst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ag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84800" y="1646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93880" y="1177920"/>
            <a:ext cx="1547280" cy="51300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nut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05080" y="3265560"/>
            <a:ext cx="988920" cy="51300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o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arum grafische Modellieru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71400" y="1812960"/>
            <a:ext cx="7772400" cy="3519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netzte Strukturen und Prozesse werden 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zweigung, Zusammenführung und Wechselwirkung werden hervorgeho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ble Zuordnung wird mög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litätssicherung im Abgleich mit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höhte Manipulierbarke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TechKnowledgy  - ein sozio-technisches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1066680"/>
            <a:ext cx="7010280" cy="541044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knowled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04920" y="1287360"/>
            <a:ext cx="1752480" cy="2979720"/>
            <a:chOff x="304920" y="1287360"/>
            <a:chExt cx="1752480" cy="2979720"/>
          </a:xfrm>
        </p:grpSpPr>
        <p:sp>
          <p:nvSpPr>
            <p:cNvPr id="307" name=""/>
            <p:cNvSpPr/>
            <p:nvPr/>
          </p:nvSpPr>
          <p:spPr>
            <a:xfrm>
              <a:off x="304920" y="2133720"/>
              <a:ext cx="1447560" cy="2133360"/>
            </a:xfrm>
            <a:custGeom>
              <a:avLst/>
              <a:gdLst>
                <a:gd name="textAreaLeft" fmla="*/ 24840 w 1447560"/>
                <a:gd name="textAreaRight" fmla="*/ 1422720 w 1447560"/>
                <a:gd name="textAreaTop" fmla="*/ 24840 h 2133360"/>
                <a:gd name="textAreaBottom" fmla="*/ 2108520 h 2133360"/>
              </a:gdLst>
              <a:ahLst/>
              <a:rect l="textAreaLeft" t="textAreaTop" r="textAreaRight" b="textAreaBottom"/>
              <a:pathLst>
                <a:path w="21600" h="31831">
                  <a:moveTo>
                    <a:pt x="1271" y="0"/>
                  </a:moveTo>
                  <a:arcTo wR="1271" hR="1271" stAng="16200000" swAng="-5400000"/>
                  <a:lnTo>
                    <a:pt x="0" y="30560"/>
                  </a:lnTo>
                  <a:arcTo wR="1271" hR="1271" stAng="10800000" swAng="-5400000"/>
                  <a:lnTo>
                    <a:pt x="20329" y="31831"/>
                  </a:lnTo>
                  <a:arcTo wR="1271" hR="1271" stAng="5400000" swAng="-5400000"/>
                  <a:lnTo>
                    <a:pt x="21600" y="1271"/>
                  </a:lnTo>
                  <a:arcTo wR="1271" hR="1271" stAng="0" swAng="-5400000"/>
                  <a:close/>
                </a:path>
              </a:pathLst>
            </a:custGeom>
            <a:solidFill>
              <a:srgbClr val="ff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9720" y="2560680"/>
              <a:ext cx="1165320" cy="472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Lösung such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23880" y="28195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066680" y="1600200"/>
              <a:ext cx="0" cy="573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18960" y="1287360"/>
              <a:ext cx="1123920" cy="302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utzer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7315200" y="2895120"/>
            <a:ext cx="1447920" cy="1621440"/>
            <a:chOff x="7315200" y="2895120"/>
            <a:chExt cx="1447920" cy="1621440"/>
          </a:xfrm>
        </p:grpSpPr>
        <p:sp>
          <p:nvSpPr>
            <p:cNvPr id="313" name=""/>
            <p:cNvSpPr/>
            <p:nvPr/>
          </p:nvSpPr>
          <p:spPr>
            <a:xfrm>
              <a:off x="7315200" y="3162240"/>
              <a:ext cx="1447920" cy="1181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Zusatzinf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91520" y="3505320"/>
              <a:ext cx="1295280" cy="22860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achbüc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91520" y="3809880"/>
              <a:ext cx="1295280" cy="22860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fzeichnun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8077320" y="2895120"/>
              <a:ext cx="38088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48720" y="4149720"/>
              <a:ext cx="365040" cy="366840"/>
            </a:xfrm>
            <a:prstGeom prst="blockArc">
              <a:avLst>
                <a:gd name="adj1" fmla="val 10800000"/>
                <a:gd name="adj2" fmla="val 0"/>
                <a:gd name="adj3" fmla="val 4974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43760" y="4114440"/>
              <a:ext cx="15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428840" y="1463760"/>
            <a:ext cx="7334280" cy="4937040"/>
            <a:chOff x="1428840" y="1463760"/>
            <a:chExt cx="7334280" cy="4937040"/>
          </a:xfrm>
        </p:grpSpPr>
        <p:sp>
          <p:nvSpPr>
            <p:cNvPr id="320" name=""/>
            <p:cNvSpPr/>
            <p:nvPr/>
          </p:nvSpPr>
          <p:spPr>
            <a:xfrm>
              <a:off x="1981080" y="5334120"/>
              <a:ext cx="6782040" cy="10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achdatenbank (D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48040" y="2133720"/>
              <a:ext cx="1244520" cy="990360"/>
            </a:xfrm>
            <a:prstGeom prst="roundRect">
              <a:avLst>
                <a:gd name="adj" fmla="val 12315"/>
              </a:avLst>
            </a:prstGeom>
            <a:solidFill>
              <a:srgbClr val="ff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ittels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ach-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eantwortbar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666880" y="3123720"/>
              <a:ext cx="0" cy="221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428840" y="1463760"/>
              <a:ext cx="1128600" cy="669960"/>
            </a:xfrm>
            <a:custGeom>
              <a:avLst/>
              <a:gdLst/>
              <a:ahLst/>
              <a:rect l="l" t="t" r="r" b="b"/>
              <a:pathLst>
                <a:path w="711" h="422">
                  <a:moveTo>
                    <a:pt x="0" y="0"/>
                  </a:moveTo>
                  <a:lnTo>
                    <a:pt x="711" y="0"/>
                  </a:lnTo>
                  <a:lnTo>
                    <a:pt x="711" y="4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276720" y="1304640"/>
            <a:ext cx="2431800" cy="1311480"/>
            <a:chOff x="3276720" y="1304640"/>
            <a:chExt cx="2431800" cy="1311480"/>
          </a:xfrm>
        </p:grpSpPr>
        <p:sp>
          <p:nvSpPr>
            <p:cNvPr id="325" name=""/>
            <p:cNvSpPr/>
            <p:nvPr/>
          </p:nvSpPr>
          <p:spPr>
            <a:xfrm>
              <a:off x="3276720" y="2406600"/>
              <a:ext cx="9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05320" y="2303640"/>
              <a:ext cx="533160" cy="207720"/>
            </a:xfrm>
            <a:prstGeom prst="hexagon">
              <a:avLst>
                <a:gd name="adj" fmla="val 64168"/>
                <a:gd name="vf" fmla="val 115470"/>
              </a:avLst>
            </a:prstGeom>
            <a:solidFill>
              <a:srgbClr val="cc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e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67080" y="2143440"/>
              <a:ext cx="1441440" cy="4726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ine Frage veröffentlich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51120" y="1304640"/>
              <a:ext cx="1140120" cy="302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utzer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33960" y="1604880"/>
              <a:ext cx="536400" cy="52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172200" y="3733920"/>
            <a:ext cx="2671920" cy="1600200"/>
            <a:chOff x="6172200" y="3733920"/>
            <a:chExt cx="2671920" cy="1600200"/>
          </a:xfrm>
        </p:grpSpPr>
        <p:sp>
          <p:nvSpPr>
            <p:cNvPr id="331" name=""/>
            <p:cNvSpPr/>
            <p:nvPr/>
          </p:nvSpPr>
          <p:spPr>
            <a:xfrm>
              <a:off x="6858000" y="3733920"/>
              <a:ext cx="304920" cy="304560"/>
            </a:xfrm>
            <a:prstGeom prst="diamond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6172200" y="4038480"/>
              <a:ext cx="2671920" cy="1295640"/>
              <a:chOff x="6172200" y="4038480"/>
              <a:chExt cx="2671920" cy="1295640"/>
            </a:xfrm>
          </p:grpSpPr>
          <p:sp>
            <p:nvSpPr>
              <p:cNvPr id="333" name=""/>
              <p:cNvSpPr/>
              <p:nvPr/>
            </p:nvSpPr>
            <p:spPr>
              <a:xfrm>
                <a:off x="6172200" y="4724280"/>
                <a:ext cx="167652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ff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Antwort abspeicher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010280" y="4038480"/>
                <a:ext cx="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010280" y="502920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81680" y="4245120"/>
                <a:ext cx="381240" cy="250560"/>
              </a:xfrm>
              <a:prstGeom prst="hexagon">
                <a:avLst>
                  <a:gd name="adj" fmla="val 38039"/>
                  <a:gd name="vf" fmla="val 115470"/>
                </a:avLst>
              </a:prstGeom>
              <a:solidFill>
                <a:srgbClr val="cc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7832520" y="4727160"/>
                <a:ext cx="1011600" cy="302040"/>
                <a:chOff x="7832520" y="4727160"/>
                <a:chExt cx="1011600" cy="30204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8213760" y="4727160"/>
                  <a:ext cx="630360" cy="302040"/>
                </a:xfrm>
                <a:prstGeom prst="ellipse">
                  <a:avLst/>
                </a:prstGeom>
                <a:solidFill>
                  <a:srgbClr val="ffcc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00"/>
                      </a:solidFill>
                      <a:latin typeface="Arial"/>
                    </a:rPr>
                    <a:t>Red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>
                  <a:off x="7832520" y="4886280"/>
                  <a:ext cx="369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40" name=""/>
          <p:cNvGrpSpPr/>
          <p:nvPr/>
        </p:nvGrpSpPr>
        <p:grpSpPr>
          <a:xfrm>
            <a:off x="6629400" y="1143000"/>
            <a:ext cx="1971720" cy="1490760"/>
            <a:chOff x="6629400" y="1143000"/>
            <a:chExt cx="1971720" cy="1490760"/>
          </a:xfrm>
        </p:grpSpPr>
        <p:sp>
          <p:nvSpPr>
            <p:cNvPr id="341" name=""/>
            <p:cNvSpPr/>
            <p:nvPr/>
          </p:nvSpPr>
          <p:spPr>
            <a:xfrm>
              <a:off x="7315200" y="2057400"/>
              <a:ext cx="0" cy="57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29400" y="1143000"/>
              <a:ext cx="1971720" cy="99072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xpe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10280" y="1600200"/>
              <a:ext cx="1219320" cy="38088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ompetenz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77320" y="1828800"/>
              <a:ext cx="0" cy="78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15240" y="2206800"/>
              <a:ext cx="777960" cy="250560"/>
            </a:xfrm>
            <a:prstGeom prst="hexagon">
              <a:avLst>
                <a:gd name="adj" fmla="val 39328"/>
                <a:gd name="vf" fmla="val 115470"/>
              </a:avLst>
            </a:prstGeom>
            <a:solidFill>
              <a:srgbClr val="cc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is 8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80880" y="2767320"/>
            <a:ext cx="6867720" cy="3557160"/>
            <a:chOff x="380880" y="2767320"/>
            <a:chExt cx="6867720" cy="3557160"/>
          </a:xfrm>
        </p:grpSpPr>
        <p:sp>
          <p:nvSpPr>
            <p:cNvPr id="347" name=""/>
            <p:cNvSpPr/>
            <p:nvPr/>
          </p:nvSpPr>
          <p:spPr>
            <a:xfrm>
              <a:off x="380880" y="3429000"/>
              <a:ext cx="1143000" cy="609480"/>
            </a:xfrm>
            <a:prstGeom prst="roundRect">
              <a:avLst>
                <a:gd name="adj" fmla="val 4583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ntwort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uswer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4422600" y="3733920"/>
              <a:ext cx="301680" cy="304560"/>
              <a:chOff x="4422600" y="3733920"/>
              <a:chExt cx="301680" cy="304560"/>
            </a:xfrm>
          </p:grpSpPr>
          <p:sp>
            <p:nvSpPr>
              <p:cNvPr id="349" name=""/>
              <p:cNvSpPr/>
              <p:nvPr/>
            </p:nvSpPr>
            <p:spPr>
              <a:xfrm flipV="1">
                <a:off x="4422600" y="3733920"/>
                <a:ext cx="301680" cy="304560"/>
              </a:xfrm>
              <a:prstGeom prst="diamond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497840" y="3809880"/>
                <a:ext cx="15084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4497480" y="3809880"/>
                <a:ext cx="15084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4572000" y="32767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59160" y="2767320"/>
              <a:ext cx="2078280" cy="4726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DB-basierte 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ulti-medial präsentier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76720" y="2998800"/>
              <a:ext cx="9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05320" y="2895480"/>
              <a:ext cx="533160" cy="208080"/>
            </a:xfrm>
            <a:prstGeom prst="hexagon">
              <a:avLst>
                <a:gd name="adj" fmla="val 64057"/>
                <a:gd name="vf" fmla="val 115470"/>
              </a:avLst>
            </a:prstGeom>
            <a:solidFill>
              <a:srgbClr val="cc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j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23880" y="3809880"/>
              <a:ext cx="2895840" cy="76320"/>
            </a:xfrm>
            <a:custGeom>
              <a:avLst/>
              <a:gdLst/>
              <a:ahLst/>
              <a:rect l="l" t="t" r="r" b="b"/>
              <a:pathLst>
                <a:path w="1824" h="48">
                  <a:moveTo>
                    <a:pt x="1824" y="48"/>
                  </a:moveTo>
                  <a:lnTo>
                    <a:pt x="768" y="48"/>
                  </a:lnTo>
                  <a:lnTo>
                    <a:pt x="720" y="0"/>
                  </a:lnTo>
                  <a:lnTo>
                    <a:pt x="624" y="48"/>
                  </a:lnTo>
                  <a:lnTo>
                    <a:pt x="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32040" bIns="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89240" y="6019920"/>
              <a:ext cx="3159360" cy="30456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achliche Beschreibung (conte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029200" y="3200400"/>
              <a:ext cx="0" cy="282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724280" y="1323720"/>
            <a:ext cx="3886200" cy="2562480"/>
            <a:chOff x="4724280" y="1323720"/>
            <a:chExt cx="3886200" cy="2562480"/>
          </a:xfrm>
        </p:grpSpPr>
        <p:sp>
          <p:nvSpPr>
            <p:cNvPr id="360" name=""/>
            <p:cNvSpPr/>
            <p:nvPr/>
          </p:nvSpPr>
          <p:spPr>
            <a:xfrm>
              <a:off x="5686560" y="2438280"/>
              <a:ext cx="1095120" cy="228600"/>
            </a:xfrm>
            <a:custGeom>
              <a:avLst/>
              <a:gdLst/>
              <a:ahLst/>
              <a:rect l="l" t="t" r="r" b="b"/>
              <a:pathLst>
                <a:path w="690" h="144">
                  <a:moveTo>
                    <a:pt x="0" y="0"/>
                  </a:moveTo>
                  <a:lnTo>
                    <a:pt x="562" y="0"/>
                  </a:lnTo>
                  <a:lnTo>
                    <a:pt x="690" y="1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24280" y="2895480"/>
              <a:ext cx="2286000" cy="990720"/>
            </a:xfrm>
            <a:custGeom>
              <a:avLst/>
              <a:gdLst/>
              <a:ahLst/>
              <a:rect l="l" t="t" r="r" b="b"/>
              <a:pathLst>
                <a:path w="1440" h="624">
                  <a:moveTo>
                    <a:pt x="1440" y="0"/>
                  </a:moveTo>
                  <a:lnTo>
                    <a:pt x="1440" y="624"/>
                  </a:lnTo>
                  <a:lnTo>
                    <a:pt x="672" y="624"/>
                  </a:lnTo>
                  <a:lnTo>
                    <a:pt x="618" y="616"/>
                  </a:lnTo>
                  <a:lnTo>
                    <a:pt x="576" y="624"/>
                  </a:lnTo>
                  <a:lnTo>
                    <a:pt x="240" y="624"/>
                  </a:lnTo>
                  <a:lnTo>
                    <a:pt x="192" y="576"/>
                  </a:lnTo>
                  <a:lnTo>
                    <a:pt x="144" y="624"/>
                  </a:lnTo>
                  <a:lnTo>
                    <a:pt x="0" y="6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781680" y="2641680"/>
              <a:ext cx="1828800" cy="2538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ntwort ertei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22800" y="1323720"/>
              <a:ext cx="1123920" cy="302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utzer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99320" y="1639800"/>
              <a:ext cx="1002960" cy="10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Vagheit bei sozio-technischen System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1066680"/>
            <a:ext cx="7010280" cy="541044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knowled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981080" y="5334120"/>
            <a:ext cx="678204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chdatenbank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55960" y="2133720"/>
            <a:ext cx="1244520" cy="990360"/>
          </a:xfrm>
          <a:prstGeom prst="roundRect">
            <a:avLst>
              <a:gd name="adj" fmla="val 12315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el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ch-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ntwortba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666880" y="312372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2133720"/>
            <a:ext cx="1447560" cy="2133360"/>
          </a:xfrm>
          <a:custGeom>
            <a:avLst/>
            <a:gdLst>
              <a:gd name="textAreaLeft" fmla="*/ 24840 w 1447560"/>
              <a:gd name="textAreaRight" fmla="*/ 1422720 w 1447560"/>
              <a:gd name="textAreaTop" fmla="*/ 24840 h 2133360"/>
              <a:gd name="textAreaBottom" fmla="*/ 2108520 h 2133360"/>
            </a:gdLst>
            <a:ahLst/>
            <a:rect l="textAreaLeft" t="textAreaTop" r="textAreaRight" b="textAreaBottom"/>
            <a:pathLst>
              <a:path w="21600" h="31831">
                <a:moveTo>
                  <a:pt x="1271" y="0"/>
                </a:moveTo>
                <a:arcTo wR="1271" hR="1271" stAng="16200000" swAng="-5400000"/>
                <a:lnTo>
                  <a:pt x="0" y="30560"/>
                </a:lnTo>
                <a:arcTo wR="1271" hR="1271" stAng="10800000" swAng="-5400000"/>
                <a:lnTo>
                  <a:pt x="20329" y="31831"/>
                </a:lnTo>
                <a:arcTo wR="1271" hR="1271" stAng="5400000" swAng="-5400000"/>
                <a:lnTo>
                  <a:pt x="21600" y="1271"/>
                </a:lnTo>
                <a:arcTo wR="1271" hR="1271" stAng="0" swAng="-5400000"/>
                <a:close/>
              </a:path>
            </a:pathLst>
          </a:cu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9720" y="2560680"/>
            <a:ext cx="1165320" cy="472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ösung su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3429000"/>
            <a:ext cx="1143000" cy="609480"/>
          </a:xfrm>
          <a:prstGeom prst="roundRect">
            <a:avLst>
              <a:gd name="adj" fmla="val 458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twor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wer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23880" y="281952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1600200"/>
            <a:ext cx="0" cy="573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8960" y="1287360"/>
            <a:ext cx="1123920" cy="30204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tzer[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0" y="3733920"/>
            <a:ext cx="304920" cy="30456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72200" y="47242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twort abspeich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10280" y="40384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0280" y="502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81680" y="4245120"/>
            <a:ext cx="381240" cy="250560"/>
          </a:xfrm>
          <a:prstGeom prst="hexagon">
            <a:avLst>
              <a:gd name="adj" fmla="val 38039"/>
              <a:gd name="vf" fmla="val 115470"/>
            </a:avLst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029200" y="3200400"/>
            <a:ext cx="0" cy="2822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22600" y="3733920"/>
            <a:ext cx="301680" cy="304560"/>
            <a:chOff x="4422600" y="3733920"/>
            <a:chExt cx="301680" cy="304560"/>
          </a:xfrm>
        </p:grpSpPr>
        <p:sp>
          <p:nvSpPr>
            <p:cNvPr id="383" name=""/>
            <p:cNvSpPr/>
            <p:nvPr/>
          </p:nvSpPr>
          <p:spPr>
            <a:xfrm flipV="1">
              <a:off x="4422600" y="3733920"/>
              <a:ext cx="301680" cy="304560"/>
            </a:xfrm>
            <a:prstGeom prst="diamond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97840" y="3809880"/>
              <a:ext cx="1508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4497480" y="3809880"/>
              <a:ext cx="1508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4572000" y="32767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59160" y="2767320"/>
            <a:ext cx="2078280" cy="4726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B-basierte Antw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ulti-medial präsentie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9988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505320" y="2895480"/>
            <a:ext cx="533160" cy="208080"/>
          </a:xfrm>
          <a:prstGeom prst="hexagon">
            <a:avLst>
              <a:gd name="adj" fmla="val 64057"/>
              <a:gd name="vf" fmla="val 115470"/>
            </a:avLst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23880" y="3809880"/>
            <a:ext cx="2895840" cy="7632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1824" y="48"/>
                </a:moveTo>
                <a:lnTo>
                  <a:pt x="768" y="48"/>
                </a:lnTo>
                <a:lnTo>
                  <a:pt x="720" y="0"/>
                </a:lnTo>
                <a:lnTo>
                  <a:pt x="624" y="48"/>
                </a:lnTo>
                <a:lnTo>
                  <a:pt x="0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76720" y="24066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05320" y="2303640"/>
            <a:ext cx="533160" cy="207720"/>
          </a:xfrm>
          <a:prstGeom prst="hexagon">
            <a:avLst>
              <a:gd name="adj" fmla="val 64168"/>
              <a:gd name="vf" fmla="val 115470"/>
            </a:avLst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10280" y="1600200"/>
            <a:ext cx="1219320" cy="38088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peten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24280" y="2895480"/>
            <a:ext cx="2286000" cy="990720"/>
          </a:xfrm>
          <a:custGeom>
            <a:avLst/>
            <a:gdLst/>
            <a:ahLst/>
            <a:rect l="l" t="t" r="r" b="b"/>
            <a:pathLst>
              <a:path w="1440" h="624">
                <a:moveTo>
                  <a:pt x="1440" y="0"/>
                </a:moveTo>
                <a:lnTo>
                  <a:pt x="1440" y="624"/>
                </a:lnTo>
                <a:lnTo>
                  <a:pt x="672" y="624"/>
                </a:lnTo>
                <a:lnTo>
                  <a:pt x="618" y="616"/>
                </a:lnTo>
                <a:lnTo>
                  <a:pt x="576" y="624"/>
                </a:lnTo>
                <a:lnTo>
                  <a:pt x="240" y="624"/>
                </a:lnTo>
                <a:lnTo>
                  <a:pt x="192" y="576"/>
                </a:lnTo>
                <a:lnTo>
                  <a:pt x="144" y="624"/>
                </a:lnTo>
                <a:lnTo>
                  <a:pt x="0" y="6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5200" y="3162240"/>
            <a:ext cx="1447920" cy="118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satz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505320"/>
            <a:ext cx="1295280" cy="2286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chbü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391520" y="3809880"/>
            <a:ext cx="1295280" cy="2286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zeichn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8077320" y="2895120"/>
            <a:ext cx="38088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7848720" y="4114440"/>
            <a:ext cx="365040" cy="402120"/>
            <a:chOff x="7848720" y="4114440"/>
            <a:chExt cx="365040" cy="402120"/>
          </a:xfrm>
        </p:grpSpPr>
        <p:sp>
          <p:nvSpPr>
            <p:cNvPr id="400" name=""/>
            <p:cNvSpPr/>
            <p:nvPr/>
          </p:nvSpPr>
          <p:spPr>
            <a:xfrm>
              <a:off x="7848720" y="4149720"/>
              <a:ext cx="365040" cy="366840"/>
            </a:xfrm>
            <a:prstGeom prst="blockArc">
              <a:avLst>
                <a:gd name="adj1" fmla="val 10800000"/>
                <a:gd name="adj2" fmla="val 0"/>
                <a:gd name="adj3" fmla="val 4974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943760" y="4114440"/>
              <a:ext cx="15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1428840" y="1463760"/>
            <a:ext cx="1128600" cy="669960"/>
          </a:xfrm>
          <a:custGeom>
            <a:avLst/>
            <a:gdLst/>
            <a:ahLst/>
            <a:rect l="l" t="t" r="r" b="b"/>
            <a:pathLst>
              <a:path w="711" h="422">
                <a:moveTo>
                  <a:pt x="0" y="0"/>
                </a:moveTo>
                <a:lnTo>
                  <a:pt x="711" y="0"/>
                </a:lnTo>
                <a:lnTo>
                  <a:pt x="711" y="42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67080" y="2143440"/>
            <a:ext cx="1441440" cy="4726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e Frage veröffentli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51120" y="1304640"/>
            <a:ext cx="1140120" cy="30204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tzer[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233960" y="1604880"/>
            <a:ext cx="536400" cy="528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7832520" y="4727160"/>
            <a:ext cx="1011600" cy="302040"/>
            <a:chOff x="7832520" y="4727160"/>
            <a:chExt cx="1011600" cy="302040"/>
          </a:xfrm>
        </p:grpSpPr>
        <p:sp>
          <p:nvSpPr>
            <p:cNvPr id="407" name=""/>
            <p:cNvSpPr/>
            <p:nvPr/>
          </p:nvSpPr>
          <p:spPr>
            <a:xfrm>
              <a:off x="8213760" y="4727160"/>
              <a:ext cx="630360" cy="302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7832520" y="4886280"/>
              <a:ext cx="36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8083440" y="2882880"/>
            <a:ext cx="762120" cy="7621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89240" y="6019920"/>
            <a:ext cx="3159360" cy="30456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chliche Beschreibung (cont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6629400" y="1143000"/>
            <a:ext cx="1971720" cy="1490760"/>
            <a:chOff x="6629400" y="1143000"/>
            <a:chExt cx="1971720" cy="1490760"/>
          </a:xfrm>
        </p:grpSpPr>
        <p:sp>
          <p:nvSpPr>
            <p:cNvPr id="412" name=""/>
            <p:cNvSpPr/>
            <p:nvPr/>
          </p:nvSpPr>
          <p:spPr>
            <a:xfrm>
              <a:off x="7315200" y="2057400"/>
              <a:ext cx="0" cy="57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9400" y="1143000"/>
              <a:ext cx="1971720" cy="99072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xpe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10280" y="1600200"/>
              <a:ext cx="1219320" cy="38088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ompetenz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77320" y="1828800"/>
              <a:ext cx="0" cy="78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15240" y="2206800"/>
              <a:ext cx="777960" cy="250560"/>
            </a:xfrm>
            <a:prstGeom prst="hexagon">
              <a:avLst>
                <a:gd name="adj" fmla="val 39328"/>
                <a:gd name="vf" fmla="val 115470"/>
              </a:avLst>
            </a:prstGeom>
            <a:solidFill>
              <a:srgbClr val="cc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is 8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724280" y="1323720"/>
            <a:ext cx="3886200" cy="2562480"/>
            <a:chOff x="4724280" y="1323720"/>
            <a:chExt cx="3886200" cy="2562480"/>
          </a:xfrm>
        </p:grpSpPr>
        <p:sp>
          <p:nvSpPr>
            <p:cNvPr id="418" name=""/>
            <p:cNvSpPr/>
            <p:nvPr/>
          </p:nvSpPr>
          <p:spPr>
            <a:xfrm>
              <a:off x="5686560" y="2438280"/>
              <a:ext cx="1095120" cy="228600"/>
            </a:xfrm>
            <a:custGeom>
              <a:avLst/>
              <a:gdLst/>
              <a:ahLst/>
              <a:rect l="l" t="t" r="r" b="b"/>
              <a:pathLst>
                <a:path w="690" h="144">
                  <a:moveTo>
                    <a:pt x="0" y="0"/>
                  </a:moveTo>
                  <a:lnTo>
                    <a:pt x="562" y="0"/>
                  </a:lnTo>
                  <a:lnTo>
                    <a:pt x="690" y="1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24280" y="2895480"/>
              <a:ext cx="2286000" cy="990720"/>
            </a:xfrm>
            <a:custGeom>
              <a:avLst/>
              <a:gdLst/>
              <a:ahLst/>
              <a:rect l="l" t="t" r="r" b="b"/>
              <a:pathLst>
                <a:path w="1440" h="624">
                  <a:moveTo>
                    <a:pt x="1440" y="0"/>
                  </a:moveTo>
                  <a:lnTo>
                    <a:pt x="1440" y="624"/>
                  </a:lnTo>
                  <a:lnTo>
                    <a:pt x="672" y="624"/>
                  </a:lnTo>
                  <a:lnTo>
                    <a:pt x="618" y="616"/>
                  </a:lnTo>
                  <a:lnTo>
                    <a:pt x="576" y="624"/>
                  </a:lnTo>
                  <a:lnTo>
                    <a:pt x="240" y="624"/>
                  </a:lnTo>
                  <a:lnTo>
                    <a:pt x="192" y="576"/>
                  </a:lnTo>
                  <a:lnTo>
                    <a:pt x="144" y="624"/>
                  </a:lnTo>
                  <a:lnTo>
                    <a:pt x="0" y="6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81680" y="2641680"/>
              <a:ext cx="1828800" cy="2538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ntwort ertei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122800" y="1323720"/>
              <a:ext cx="1123920" cy="302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utzer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99320" y="1639800"/>
              <a:ext cx="1002960" cy="10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7696080" y="1523880"/>
            <a:ext cx="762120" cy="7621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Überbli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16040" y="1600200"/>
            <a:ext cx="7772400" cy="4114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tion sozio-technischer Syst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dellierungsele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gheit am Beispiel eines sozio-technische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Sinn von Mod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Bedeutung unterschiedlicher Verbindungen von Relationen mit Elemen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87320" y="1676520"/>
            <a:ext cx="3403800" cy="863640"/>
            <a:chOff x="787320" y="1676520"/>
            <a:chExt cx="3403800" cy="863640"/>
          </a:xfrm>
        </p:grpSpPr>
        <p:sp>
          <p:nvSpPr>
            <p:cNvPr id="426" name=""/>
            <p:cNvSpPr/>
            <p:nvPr/>
          </p:nvSpPr>
          <p:spPr>
            <a:xfrm>
              <a:off x="787320" y="1676520"/>
              <a:ext cx="1193760" cy="863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1240" y="1763640"/>
              <a:ext cx="1080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nfra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92440" y="1676520"/>
              <a:ext cx="1498680" cy="863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11160" y="1763640"/>
              <a:ext cx="1435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eantwor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94040" y="2133720"/>
              <a:ext cx="698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335480" y="1663560"/>
            <a:ext cx="4173480" cy="863640"/>
            <a:chOff x="4335480" y="1663560"/>
            <a:chExt cx="4173480" cy="863640"/>
          </a:xfrm>
        </p:grpSpPr>
        <p:sp>
          <p:nvSpPr>
            <p:cNvPr id="432" name=""/>
            <p:cNvSpPr/>
            <p:nvPr/>
          </p:nvSpPr>
          <p:spPr>
            <a:xfrm>
              <a:off x="5105520" y="1663560"/>
              <a:ext cx="1193760" cy="863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49080" y="1751040"/>
              <a:ext cx="1080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nfra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10280" y="1663560"/>
              <a:ext cx="1498680" cy="863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29000" y="1751040"/>
              <a:ext cx="1435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eantwort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64240" y="2120760"/>
              <a:ext cx="1346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35480" y="194148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629080" y="3657600"/>
            <a:ext cx="1562040" cy="2641680"/>
            <a:chOff x="2629080" y="3657600"/>
            <a:chExt cx="1562040" cy="2641680"/>
          </a:xfrm>
        </p:grpSpPr>
        <p:sp>
          <p:nvSpPr>
            <p:cNvPr id="439" name=""/>
            <p:cNvSpPr/>
            <p:nvPr/>
          </p:nvSpPr>
          <p:spPr>
            <a:xfrm>
              <a:off x="2629080" y="3657600"/>
              <a:ext cx="1498320" cy="863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35200" y="3745080"/>
              <a:ext cx="1460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ktualisie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79840" y="5346720"/>
              <a:ext cx="1511280" cy="95256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38320" y="5548320"/>
              <a:ext cx="929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iss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78240" y="4533840"/>
              <a:ext cx="0" cy="82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462560" y="3606840"/>
            <a:ext cx="2522520" cy="2641680"/>
            <a:chOff x="4462560" y="3606840"/>
            <a:chExt cx="2522520" cy="2641680"/>
          </a:xfrm>
        </p:grpSpPr>
        <p:sp>
          <p:nvSpPr>
            <p:cNvPr id="445" name=""/>
            <p:cNvSpPr/>
            <p:nvPr/>
          </p:nvSpPr>
          <p:spPr>
            <a:xfrm>
              <a:off x="5423040" y="3606840"/>
              <a:ext cx="1498320" cy="8636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29520" y="3693960"/>
              <a:ext cx="1460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ktualisie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73800" y="5143680"/>
              <a:ext cx="1511280" cy="110484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732640" y="5497560"/>
              <a:ext cx="929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iss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35560" y="4495680"/>
              <a:ext cx="0" cy="101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62560" y="457056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meidung von Sequenzialisierung 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158840" y="47401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407360" y="47401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53920" y="1539720"/>
            <a:ext cx="1752840" cy="457200"/>
          </a:xfrm>
          <a:prstGeom prst="ellipse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92360" y="1996920"/>
            <a:ext cx="1066680" cy="1752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78360" y="1616040"/>
            <a:ext cx="1752480" cy="457200"/>
          </a:xfrm>
          <a:prstGeom prst="ellipse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ilneh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867200" y="20732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16240" y="2378160"/>
            <a:ext cx="3048120" cy="533160"/>
          </a:xfrm>
          <a:prstGeom prst="roundRect">
            <a:avLst>
              <a:gd name="adj" fmla="val 32819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rmin bestäti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073240" y="3749760"/>
            <a:ext cx="5334120" cy="1828800"/>
          </a:xfrm>
          <a:prstGeom prst="roundRect">
            <a:avLst>
              <a:gd name="adj" fmla="val 32819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pre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berei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6111720" y="2910960"/>
            <a:ext cx="0" cy="1708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544840" y="2910960"/>
            <a:ext cx="1569960" cy="2208600"/>
            <a:chOff x="2544840" y="2910960"/>
            <a:chExt cx="1569960" cy="2208600"/>
          </a:xfrm>
        </p:grpSpPr>
        <p:sp>
          <p:nvSpPr>
            <p:cNvPr id="462" name=""/>
            <p:cNvSpPr/>
            <p:nvPr/>
          </p:nvSpPr>
          <p:spPr>
            <a:xfrm>
              <a:off x="2544840" y="4738680"/>
              <a:ext cx="1569960" cy="380880"/>
            </a:xfrm>
            <a:prstGeom prst="roundRect">
              <a:avLst>
                <a:gd name="adj" fmla="val 44583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Zusage erbit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3521160" y="2910960"/>
              <a:ext cx="0" cy="181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5454720" y="4586400"/>
            <a:ext cx="1569960" cy="641160"/>
          </a:xfrm>
          <a:prstGeom prst="roundRect">
            <a:avLst>
              <a:gd name="adj" fmla="val 4458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inladu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sen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meidung von Sequenzialisierung I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158840" y="47401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07360" y="47401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53920" y="1539720"/>
            <a:ext cx="1752840" cy="457200"/>
          </a:xfrm>
          <a:prstGeom prst="ellipse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692360" y="1996920"/>
            <a:ext cx="1066680" cy="1752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78360" y="1616040"/>
            <a:ext cx="1752480" cy="457200"/>
          </a:xfrm>
          <a:prstGeom prst="ellipse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ilneh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67200" y="20732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216240" y="2378160"/>
            <a:ext cx="3048120" cy="533160"/>
          </a:xfrm>
          <a:prstGeom prst="roundRect">
            <a:avLst>
              <a:gd name="adj" fmla="val 32819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rmin bestäti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73240" y="3749760"/>
            <a:ext cx="5334120" cy="1828800"/>
          </a:xfrm>
          <a:prstGeom prst="roundRect">
            <a:avLst>
              <a:gd name="adj" fmla="val 32819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pre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berei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6111720" y="291132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544840" y="4738680"/>
            <a:ext cx="1569960" cy="380880"/>
          </a:xfrm>
          <a:prstGeom prst="roundRect">
            <a:avLst>
              <a:gd name="adj" fmla="val 4458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sage erbit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521160" y="2910960"/>
            <a:ext cx="0" cy="181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454720" y="4586400"/>
            <a:ext cx="1569960" cy="641160"/>
          </a:xfrm>
          <a:prstGeom prst="roundRect">
            <a:avLst>
              <a:gd name="adj" fmla="val 4458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inladu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sen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30640" y="4923000"/>
            <a:ext cx="1341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ermeidung von Sequenzialisierung I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158840" y="47401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407360" y="47401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53920" y="1539720"/>
            <a:ext cx="1752840" cy="457200"/>
          </a:xfrm>
          <a:prstGeom prst="ellipse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92360" y="1996920"/>
            <a:ext cx="1066680" cy="1752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78360" y="1616040"/>
            <a:ext cx="1752480" cy="457200"/>
          </a:xfrm>
          <a:prstGeom prst="ellipse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ilneh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867200" y="20732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16240" y="2378160"/>
            <a:ext cx="3048120" cy="533160"/>
          </a:xfrm>
          <a:prstGeom prst="roundRect">
            <a:avLst>
              <a:gd name="adj" fmla="val 32819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rmin bestäti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73240" y="3749760"/>
            <a:ext cx="5334120" cy="1828800"/>
          </a:xfrm>
          <a:prstGeom prst="roundRect">
            <a:avLst>
              <a:gd name="adj" fmla="val 32819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pre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berei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111720" y="291132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521160" y="291132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44840" y="4738680"/>
            <a:ext cx="1569960" cy="380880"/>
          </a:xfrm>
          <a:prstGeom prst="roundRect">
            <a:avLst>
              <a:gd name="adj" fmla="val 4458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usage erbit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521160" y="2910960"/>
            <a:ext cx="0" cy="181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454720" y="4586400"/>
            <a:ext cx="1569960" cy="641160"/>
          </a:xfrm>
          <a:prstGeom prst="roundRect">
            <a:avLst>
              <a:gd name="adj" fmla="val 4458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inladu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sen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Vagheit bei sozio-technischen Systemen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828800" y="1066680"/>
            <a:ext cx="7010280" cy="541044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knowled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981080" y="5334120"/>
            <a:ext cx="678204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chdatenbank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5960" y="2133720"/>
            <a:ext cx="1244520" cy="990360"/>
          </a:xfrm>
          <a:prstGeom prst="roundRect">
            <a:avLst>
              <a:gd name="adj" fmla="val 12315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el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ch-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ntwortba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2666880" y="312372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04920" y="2133720"/>
            <a:ext cx="1447560" cy="2133360"/>
          </a:xfrm>
          <a:custGeom>
            <a:avLst/>
            <a:gdLst>
              <a:gd name="textAreaLeft" fmla="*/ 24840 w 1447560"/>
              <a:gd name="textAreaRight" fmla="*/ 1422720 w 1447560"/>
              <a:gd name="textAreaTop" fmla="*/ 24840 h 2133360"/>
              <a:gd name="textAreaBottom" fmla="*/ 2108520 h 2133360"/>
            </a:gdLst>
            <a:ahLst/>
            <a:rect l="textAreaLeft" t="textAreaTop" r="textAreaRight" b="textAreaBottom"/>
            <a:pathLst>
              <a:path w="21600" h="31831">
                <a:moveTo>
                  <a:pt x="1271" y="0"/>
                </a:moveTo>
                <a:arcTo wR="1271" hR="1271" stAng="16200000" swAng="-5400000"/>
                <a:lnTo>
                  <a:pt x="0" y="30560"/>
                </a:lnTo>
                <a:arcTo wR="1271" hR="1271" stAng="10800000" swAng="-5400000"/>
                <a:lnTo>
                  <a:pt x="20329" y="31831"/>
                </a:lnTo>
                <a:arcTo wR="1271" hR="1271" stAng="5400000" swAng="-5400000"/>
                <a:lnTo>
                  <a:pt x="21600" y="1271"/>
                </a:lnTo>
                <a:arcTo wR="1271" hR="1271" stAng="0" swAng="-5400000"/>
                <a:close/>
              </a:path>
            </a:pathLst>
          </a:cu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9720" y="2560680"/>
            <a:ext cx="1165320" cy="472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ösung su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3429000"/>
            <a:ext cx="1143000" cy="609480"/>
          </a:xfrm>
          <a:prstGeom prst="roundRect">
            <a:avLst>
              <a:gd name="adj" fmla="val 458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twor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wer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3880" y="281952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066680" y="1600200"/>
            <a:ext cx="0" cy="573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8960" y="1287360"/>
            <a:ext cx="1123920" cy="30204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tzer[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733920"/>
            <a:ext cx="304920" cy="30456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172200" y="47242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twort abspeich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010280" y="40384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10280" y="502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81680" y="4245120"/>
            <a:ext cx="381240" cy="250560"/>
          </a:xfrm>
          <a:prstGeom prst="hexagon">
            <a:avLst>
              <a:gd name="adj" fmla="val 38039"/>
              <a:gd name="vf" fmla="val 115470"/>
            </a:avLst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5029200" y="3200400"/>
            <a:ext cx="0" cy="2822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422600" y="3733920"/>
            <a:ext cx="301680" cy="304560"/>
            <a:chOff x="4422600" y="3733920"/>
            <a:chExt cx="301680" cy="304560"/>
          </a:xfrm>
        </p:grpSpPr>
        <p:sp>
          <p:nvSpPr>
            <p:cNvPr id="511" name=""/>
            <p:cNvSpPr/>
            <p:nvPr/>
          </p:nvSpPr>
          <p:spPr>
            <a:xfrm flipV="1">
              <a:off x="4422600" y="3733920"/>
              <a:ext cx="301680" cy="304560"/>
            </a:xfrm>
            <a:prstGeom prst="diamond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497840" y="3809880"/>
              <a:ext cx="1508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4497480" y="3809880"/>
              <a:ext cx="1508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4572000" y="32767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59160" y="2767320"/>
            <a:ext cx="2078280" cy="4726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B-basierte Antw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ulti-medial präsentie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76720" y="29988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5320" y="2895480"/>
            <a:ext cx="533160" cy="208080"/>
          </a:xfrm>
          <a:prstGeom prst="hexagon">
            <a:avLst>
              <a:gd name="adj" fmla="val 64057"/>
              <a:gd name="vf" fmla="val 115470"/>
            </a:avLst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3809880"/>
            <a:ext cx="2895840" cy="7632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1824" y="48"/>
                </a:moveTo>
                <a:lnTo>
                  <a:pt x="768" y="48"/>
                </a:lnTo>
                <a:lnTo>
                  <a:pt x="720" y="0"/>
                </a:lnTo>
                <a:lnTo>
                  <a:pt x="624" y="48"/>
                </a:lnTo>
                <a:lnTo>
                  <a:pt x="0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76720" y="24066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05320" y="2303640"/>
            <a:ext cx="533160" cy="207720"/>
          </a:xfrm>
          <a:prstGeom prst="hexagon">
            <a:avLst>
              <a:gd name="adj" fmla="val 64168"/>
              <a:gd name="vf" fmla="val 115470"/>
            </a:avLst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724280" y="2895480"/>
            <a:ext cx="2286000" cy="990720"/>
          </a:xfrm>
          <a:custGeom>
            <a:avLst/>
            <a:gdLst/>
            <a:ahLst/>
            <a:rect l="l" t="t" r="r" b="b"/>
            <a:pathLst>
              <a:path w="1440" h="624">
                <a:moveTo>
                  <a:pt x="1440" y="0"/>
                </a:moveTo>
                <a:lnTo>
                  <a:pt x="1440" y="624"/>
                </a:lnTo>
                <a:lnTo>
                  <a:pt x="672" y="624"/>
                </a:lnTo>
                <a:lnTo>
                  <a:pt x="618" y="616"/>
                </a:lnTo>
                <a:lnTo>
                  <a:pt x="576" y="624"/>
                </a:lnTo>
                <a:lnTo>
                  <a:pt x="240" y="624"/>
                </a:lnTo>
                <a:lnTo>
                  <a:pt x="192" y="576"/>
                </a:lnTo>
                <a:lnTo>
                  <a:pt x="144" y="624"/>
                </a:lnTo>
                <a:lnTo>
                  <a:pt x="0" y="6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315200" y="3162240"/>
            <a:ext cx="1447920" cy="118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satz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91520" y="3505320"/>
            <a:ext cx="1295280" cy="2286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chbü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391520" y="3809880"/>
            <a:ext cx="1295280" cy="2286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zeichn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8077320" y="2895120"/>
            <a:ext cx="38088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7848720" y="4114440"/>
            <a:ext cx="365040" cy="402120"/>
            <a:chOff x="7848720" y="4114440"/>
            <a:chExt cx="365040" cy="402120"/>
          </a:xfrm>
        </p:grpSpPr>
        <p:sp>
          <p:nvSpPr>
            <p:cNvPr id="527" name=""/>
            <p:cNvSpPr/>
            <p:nvPr/>
          </p:nvSpPr>
          <p:spPr>
            <a:xfrm>
              <a:off x="7848720" y="4149720"/>
              <a:ext cx="365040" cy="366840"/>
            </a:xfrm>
            <a:prstGeom prst="blockArc">
              <a:avLst>
                <a:gd name="adj1" fmla="val 10800000"/>
                <a:gd name="adj2" fmla="val 0"/>
                <a:gd name="adj3" fmla="val 4974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943760" y="4114440"/>
              <a:ext cx="15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428840" y="1463760"/>
            <a:ext cx="1128600" cy="669960"/>
          </a:xfrm>
          <a:custGeom>
            <a:avLst/>
            <a:gdLst/>
            <a:ahLst/>
            <a:rect l="l" t="t" r="r" b="b"/>
            <a:pathLst>
              <a:path w="711" h="422">
                <a:moveTo>
                  <a:pt x="0" y="0"/>
                </a:moveTo>
                <a:lnTo>
                  <a:pt x="711" y="0"/>
                </a:lnTo>
                <a:lnTo>
                  <a:pt x="711" y="42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67080" y="2143440"/>
            <a:ext cx="1441440" cy="4726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e Frage veröffentli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651120" y="1304640"/>
            <a:ext cx="1140120" cy="30204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tzer[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233960" y="1604880"/>
            <a:ext cx="536400" cy="528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7832520" y="4727160"/>
            <a:ext cx="1011600" cy="302040"/>
            <a:chOff x="7832520" y="4727160"/>
            <a:chExt cx="1011600" cy="302040"/>
          </a:xfrm>
        </p:grpSpPr>
        <p:sp>
          <p:nvSpPr>
            <p:cNvPr id="534" name=""/>
            <p:cNvSpPr/>
            <p:nvPr/>
          </p:nvSpPr>
          <p:spPr>
            <a:xfrm>
              <a:off x="8213760" y="4727160"/>
              <a:ext cx="630360" cy="302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7832520" y="4886280"/>
              <a:ext cx="36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8083440" y="2882880"/>
            <a:ext cx="762120" cy="762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629400" y="4038480"/>
            <a:ext cx="762120" cy="7621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89240" y="6019920"/>
            <a:ext cx="3159360" cy="30456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chliche Beschreibung (cont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6629400" y="1143000"/>
            <a:ext cx="1971720" cy="1490760"/>
            <a:chOff x="6629400" y="1143000"/>
            <a:chExt cx="1971720" cy="1490760"/>
          </a:xfrm>
        </p:grpSpPr>
        <p:sp>
          <p:nvSpPr>
            <p:cNvPr id="540" name=""/>
            <p:cNvSpPr/>
            <p:nvPr/>
          </p:nvSpPr>
          <p:spPr>
            <a:xfrm>
              <a:off x="7315200" y="2057400"/>
              <a:ext cx="0" cy="57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29400" y="1143000"/>
              <a:ext cx="1971720" cy="99072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xpe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10280" y="1600200"/>
              <a:ext cx="1219320" cy="380880"/>
            </a:xfrm>
            <a:prstGeom prst="rect">
              <a:avLst/>
            </a:prstGeom>
            <a:solidFill>
              <a:srgbClr val="66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Kompetenz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77320" y="1828800"/>
              <a:ext cx="0" cy="787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15240" y="2206800"/>
              <a:ext cx="777960" cy="250560"/>
            </a:xfrm>
            <a:prstGeom prst="hexagon">
              <a:avLst>
                <a:gd name="adj" fmla="val 39328"/>
                <a:gd name="vf" fmla="val 115470"/>
              </a:avLst>
            </a:prstGeom>
            <a:solidFill>
              <a:srgbClr val="cc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Bis 8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4724280" y="1323720"/>
            <a:ext cx="3886200" cy="2562480"/>
            <a:chOff x="4724280" y="1323720"/>
            <a:chExt cx="3886200" cy="2562480"/>
          </a:xfrm>
        </p:grpSpPr>
        <p:sp>
          <p:nvSpPr>
            <p:cNvPr id="546" name=""/>
            <p:cNvSpPr/>
            <p:nvPr/>
          </p:nvSpPr>
          <p:spPr>
            <a:xfrm>
              <a:off x="5686560" y="2438280"/>
              <a:ext cx="1095120" cy="228600"/>
            </a:xfrm>
            <a:custGeom>
              <a:avLst/>
              <a:gdLst/>
              <a:ahLst/>
              <a:rect l="l" t="t" r="r" b="b"/>
              <a:pathLst>
                <a:path w="690" h="144">
                  <a:moveTo>
                    <a:pt x="0" y="0"/>
                  </a:moveTo>
                  <a:lnTo>
                    <a:pt x="562" y="0"/>
                  </a:lnTo>
                  <a:lnTo>
                    <a:pt x="690" y="1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724280" y="2895480"/>
              <a:ext cx="2286000" cy="990720"/>
            </a:xfrm>
            <a:custGeom>
              <a:avLst/>
              <a:gdLst/>
              <a:ahLst/>
              <a:rect l="l" t="t" r="r" b="b"/>
              <a:pathLst>
                <a:path w="1440" h="624">
                  <a:moveTo>
                    <a:pt x="1440" y="0"/>
                  </a:moveTo>
                  <a:lnTo>
                    <a:pt x="1440" y="624"/>
                  </a:lnTo>
                  <a:lnTo>
                    <a:pt x="672" y="624"/>
                  </a:lnTo>
                  <a:lnTo>
                    <a:pt x="618" y="616"/>
                  </a:lnTo>
                  <a:lnTo>
                    <a:pt x="576" y="624"/>
                  </a:lnTo>
                  <a:lnTo>
                    <a:pt x="240" y="624"/>
                  </a:lnTo>
                  <a:lnTo>
                    <a:pt x="192" y="576"/>
                  </a:lnTo>
                  <a:lnTo>
                    <a:pt x="144" y="624"/>
                  </a:lnTo>
                  <a:lnTo>
                    <a:pt x="0" y="6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781680" y="2641680"/>
              <a:ext cx="1828800" cy="2538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ntwort ertei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22800" y="1323720"/>
              <a:ext cx="1123920" cy="302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utzer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99320" y="1639800"/>
              <a:ext cx="1002960" cy="10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732800" y="1649520"/>
            <a:ext cx="761760" cy="7617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7600" y="558360"/>
            <a:ext cx="3264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Verwendung von </a:t>
            </a:r>
            <a:br>
              <a:rPr sz="2400"/>
            </a:b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Modifikatoren</a:t>
            </a:r>
            <a:br>
              <a:rPr sz="2400"/>
            </a:b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 und Konnektor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0280" y="2381400"/>
            <a:ext cx="3000240" cy="1917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Wer entscheidet be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Verzweigung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wenn keine Bedingungen angegeben we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5480" y="4819680"/>
            <a:ext cx="3038760" cy="15519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Die Rolle, die die entscheidungs-relevante Aktivität ausfüh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45200" y="696960"/>
            <a:ext cx="3593880" cy="584208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knowled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521320" y="5334120"/>
            <a:ext cx="3241800" cy="884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chdatenbank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58000" y="3733920"/>
            <a:ext cx="304920" cy="30456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172200" y="47242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twort abspeich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010280" y="40384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010280" y="502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81680" y="4245120"/>
            <a:ext cx="381240" cy="250560"/>
          </a:xfrm>
          <a:prstGeom prst="hexagon">
            <a:avLst>
              <a:gd name="adj" fmla="val 38039"/>
              <a:gd name="vf" fmla="val 115470"/>
            </a:avLst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315200" y="20574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781680" y="2362320"/>
            <a:ext cx="1447920" cy="5331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tw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tei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629400" y="939960"/>
            <a:ext cx="1971720" cy="119376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pe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966000" y="1374840"/>
            <a:ext cx="1219320" cy="38088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peten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91320" y="2895480"/>
            <a:ext cx="1218960" cy="990720"/>
          </a:xfrm>
          <a:custGeom>
            <a:avLst/>
            <a:gdLst/>
            <a:ahLst/>
            <a:rect l="l" t="t" r="r" b="b"/>
            <a:pathLst>
              <a:path w="768" h="624">
                <a:moveTo>
                  <a:pt x="768" y="0"/>
                </a:moveTo>
                <a:lnTo>
                  <a:pt x="768" y="624"/>
                </a:lnTo>
                <a:lnTo>
                  <a:pt x="0" y="6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81640" y="2664000"/>
            <a:ext cx="500040" cy="2880"/>
          </a:xfrm>
          <a:custGeom>
            <a:avLst/>
            <a:gdLst/>
            <a:ahLst/>
            <a:rect l="l" t="t" r="r" b="b"/>
            <a:pathLst>
              <a:path w="315" h="2">
                <a:moveTo>
                  <a:pt x="0" y="0"/>
                </a:moveTo>
                <a:lnTo>
                  <a:pt x="315" y="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1400" bIns="-414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077320" y="1614600"/>
            <a:ext cx="0" cy="747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315200" y="3162240"/>
            <a:ext cx="1447920" cy="118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satz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391520" y="3505320"/>
            <a:ext cx="1295280" cy="2286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chbü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391520" y="3809880"/>
            <a:ext cx="1295280" cy="2286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zeichn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8077320" y="2895120"/>
            <a:ext cx="38088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7848720" y="4114440"/>
            <a:ext cx="365040" cy="402120"/>
            <a:chOff x="7848720" y="4114440"/>
            <a:chExt cx="365040" cy="402120"/>
          </a:xfrm>
        </p:grpSpPr>
        <p:sp>
          <p:nvSpPr>
            <p:cNvPr id="574" name=""/>
            <p:cNvSpPr/>
            <p:nvPr/>
          </p:nvSpPr>
          <p:spPr>
            <a:xfrm>
              <a:off x="7848720" y="4149720"/>
              <a:ext cx="365040" cy="366840"/>
            </a:xfrm>
            <a:prstGeom prst="blockArc">
              <a:avLst>
                <a:gd name="adj1" fmla="val 10800000"/>
                <a:gd name="adj2" fmla="val 0"/>
                <a:gd name="adj3" fmla="val 4974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943760" y="4114440"/>
              <a:ext cx="15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292720" y="1323720"/>
            <a:ext cx="1515960" cy="1057680"/>
            <a:chOff x="5292720" y="1323720"/>
            <a:chExt cx="1515960" cy="1057680"/>
          </a:xfrm>
        </p:grpSpPr>
        <p:sp>
          <p:nvSpPr>
            <p:cNvPr id="577" name=""/>
            <p:cNvSpPr/>
            <p:nvPr/>
          </p:nvSpPr>
          <p:spPr>
            <a:xfrm>
              <a:off x="5292720" y="1323720"/>
              <a:ext cx="1123920" cy="302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utzer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068880" y="1639800"/>
              <a:ext cx="739800" cy="74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832520" y="4727160"/>
            <a:ext cx="1011600" cy="302040"/>
            <a:chOff x="7832520" y="4727160"/>
            <a:chExt cx="1011600" cy="302040"/>
          </a:xfrm>
        </p:grpSpPr>
        <p:sp>
          <p:nvSpPr>
            <p:cNvPr id="580" name=""/>
            <p:cNvSpPr/>
            <p:nvPr/>
          </p:nvSpPr>
          <p:spPr>
            <a:xfrm>
              <a:off x="8213760" y="4727160"/>
              <a:ext cx="630360" cy="302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7832520" y="4886280"/>
              <a:ext cx="36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629400" y="4038480"/>
            <a:ext cx="762120" cy="7621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4080" y="5594400"/>
            <a:ext cx="2762280" cy="36504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chliche Beschreibung (cont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aktische Relevanz der Entscheidungsfreiheit 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561960" y="2998800"/>
            <a:ext cx="7966080" cy="1110960"/>
            <a:chOff x="561960" y="2998800"/>
            <a:chExt cx="7966080" cy="1110960"/>
          </a:xfrm>
        </p:grpSpPr>
        <p:sp>
          <p:nvSpPr>
            <p:cNvPr id="586" name=""/>
            <p:cNvSpPr/>
            <p:nvPr/>
          </p:nvSpPr>
          <p:spPr>
            <a:xfrm>
              <a:off x="5983560" y="3706560"/>
              <a:ext cx="483840" cy="246240"/>
            </a:xfrm>
            <a:custGeom>
              <a:avLst/>
              <a:gdLst/>
              <a:ahLst/>
              <a:rect l="l" t="t" r="r" b="b"/>
              <a:pathLst>
                <a:path w="440" h="389">
                  <a:moveTo>
                    <a:pt x="440" y="0"/>
                  </a:moveTo>
                  <a:lnTo>
                    <a:pt x="440" y="389"/>
                  </a:lnTo>
                  <a:lnTo>
                    <a:pt x="0" y="38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4252320" y="3814560"/>
              <a:ext cx="1779480" cy="27612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Vertrag prüf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368080" y="3354120"/>
              <a:ext cx="360360" cy="360360"/>
            </a:xfrm>
            <a:prstGeom prst="diamond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 flipV="1" rot="16200000">
              <a:off x="3291120" y="2974680"/>
              <a:ext cx="222120" cy="1709640"/>
            </a:xfrm>
            <a:custGeom>
              <a:avLst/>
              <a:gdLst/>
              <a:ahLst/>
              <a:rect l="l" t="t" r="r" b="b"/>
              <a:pathLst>
                <a:path w="440" h="389">
                  <a:moveTo>
                    <a:pt x="440" y="0"/>
                  </a:moveTo>
                  <a:lnTo>
                    <a:pt x="440" y="389"/>
                  </a:lnTo>
                  <a:lnTo>
                    <a:pt x="0" y="38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1906200" y="3520800"/>
              <a:ext cx="44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561960" y="3277440"/>
              <a:ext cx="1355760" cy="5122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Vertrag entwerfe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677680" y="3781800"/>
              <a:ext cx="1312200" cy="327960"/>
            </a:xfrm>
            <a:prstGeom prst="hexagon">
              <a:avLst>
                <a:gd name="adj" fmla="val 38677"/>
                <a:gd name="vf" fmla="val 115470"/>
              </a:avLst>
            </a:prstGeom>
            <a:solidFill>
              <a:srgbClr val="66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Wert &gt; 5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7172280" y="3277440"/>
              <a:ext cx="1355760" cy="5122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Vertrag abschließe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6285960" y="3354120"/>
              <a:ext cx="360360" cy="360360"/>
            </a:xfrm>
            <a:prstGeom prst="diamond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54560" y="2998800"/>
              <a:ext cx="3917880" cy="366480"/>
            </a:xfrm>
            <a:custGeom>
              <a:avLst/>
              <a:gdLst/>
              <a:ahLst/>
              <a:rect l="l" t="t" r="r" b="b"/>
              <a:pathLst>
                <a:path w="2468" h="231">
                  <a:moveTo>
                    <a:pt x="0" y="214"/>
                  </a:moveTo>
                  <a:lnTo>
                    <a:pt x="0" y="0"/>
                  </a:lnTo>
                  <a:lnTo>
                    <a:pt x="2468" y="0"/>
                  </a:lnTo>
                  <a:lnTo>
                    <a:pt x="2468" y="231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629400" y="3522600"/>
              <a:ext cx="54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aktische Relevanz der Entscheidungsfreiheit I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3880" y="3338640"/>
            <a:ext cx="3430800" cy="15746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tra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werf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873760" y="3706200"/>
            <a:ext cx="484200" cy="245880"/>
          </a:xfrm>
          <a:custGeom>
            <a:avLst/>
            <a:gdLst/>
            <a:ahLst/>
            <a:rect l="l" t="t" r="r" b="b"/>
            <a:pathLst>
              <a:path w="440" h="389">
                <a:moveTo>
                  <a:pt x="440" y="0"/>
                </a:moveTo>
                <a:lnTo>
                  <a:pt x="440" y="389"/>
                </a:lnTo>
                <a:lnTo>
                  <a:pt x="0" y="3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4143240" y="3568680"/>
            <a:ext cx="1779840" cy="2761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trag prüf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 flipV="1">
            <a:off x="2258280" y="3944160"/>
            <a:ext cx="360360" cy="360360"/>
          </a:xfrm>
          <a:prstGeom prst="diamond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 rot="5400000">
            <a:off x="3182040" y="2973600"/>
            <a:ext cx="222120" cy="1710000"/>
          </a:xfrm>
          <a:custGeom>
            <a:avLst/>
            <a:gdLst/>
            <a:ahLst/>
            <a:rect l="l" t="t" r="r" b="b"/>
            <a:pathLst>
              <a:path w="440" h="389">
                <a:moveTo>
                  <a:pt x="440" y="0"/>
                </a:moveTo>
                <a:lnTo>
                  <a:pt x="440" y="389"/>
                </a:lnTo>
                <a:lnTo>
                  <a:pt x="0" y="3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1796760" y="4138560"/>
            <a:ext cx="444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965320" y="3549240"/>
            <a:ext cx="530640" cy="327960"/>
          </a:xfrm>
          <a:prstGeom prst="hexagon">
            <a:avLst>
              <a:gd name="adj" fmla="val 15641"/>
              <a:gd name="vf" fmla="val 115470"/>
            </a:avLst>
          </a:prstGeom>
          <a:solidFill>
            <a:srgbClr val="66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7062840" y="3869640"/>
            <a:ext cx="1355760" cy="512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trag abschließ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6176160" y="3944160"/>
            <a:ext cx="360360" cy="360360"/>
          </a:xfrm>
          <a:prstGeom prst="diamond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444760" y="4293360"/>
            <a:ext cx="3917880" cy="366840"/>
          </a:xfrm>
          <a:custGeom>
            <a:avLst/>
            <a:gdLst/>
            <a:ahLst/>
            <a:rect l="l" t="t" r="r" b="b"/>
            <a:pathLst>
              <a:path w="2468" h="231">
                <a:moveTo>
                  <a:pt x="0" y="214"/>
                </a:moveTo>
                <a:lnTo>
                  <a:pt x="0" y="0"/>
                </a:lnTo>
                <a:lnTo>
                  <a:pt x="2468" y="0"/>
                </a:lnTo>
                <a:lnTo>
                  <a:pt x="2468" y="23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519960" y="4137120"/>
            <a:ext cx="54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17480" y="2202840"/>
            <a:ext cx="2343240" cy="352440"/>
          </a:xfrm>
          <a:prstGeom prst="ellipse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achbearbeiter [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05120" y="2557440"/>
            <a:ext cx="0" cy="76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287880" y="2203560"/>
            <a:ext cx="5037120" cy="1341360"/>
            <a:chOff x="3287880" y="2203560"/>
            <a:chExt cx="5037120" cy="1341360"/>
          </a:xfrm>
        </p:grpSpPr>
        <p:sp>
          <p:nvSpPr>
            <p:cNvPr id="612" name=""/>
            <p:cNvSpPr/>
            <p:nvPr/>
          </p:nvSpPr>
          <p:spPr>
            <a:xfrm flipH="1" flipV="1">
              <a:off x="5644800" y="2733120"/>
              <a:ext cx="360360" cy="360360"/>
            </a:xfrm>
            <a:prstGeom prst="diamond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87880" y="2203560"/>
              <a:ext cx="2343240" cy="352440"/>
            </a:xfrm>
            <a:prstGeom prst="ellipse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Sachbearbeiter 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981760" y="2203560"/>
              <a:ext cx="2343240" cy="352440"/>
            </a:xfrm>
            <a:prstGeom prst="ellipse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Sachbearbeiter [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2568600"/>
              <a:ext cx="1217520" cy="344520"/>
            </a:xfrm>
            <a:custGeom>
              <a:avLst/>
              <a:gdLst/>
              <a:ahLst/>
              <a:rect l="l" t="t" r="r" b="b"/>
              <a:pathLst>
                <a:path w="440" h="389">
                  <a:moveTo>
                    <a:pt x="440" y="0"/>
                  </a:moveTo>
                  <a:lnTo>
                    <a:pt x="440" y="389"/>
                  </a:lnTo>
                  <a:lnTo>
                    <a:pt x="0" y="38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4338720" y="2568600"/>
              <a:ext cx="1316160" cy="368280"/>
            </a:xfrm>
            <a:custGeom>
              <a:avLst/>
              <a:gdLst/>
              <a:ahLst/>
              <a:rect l="l" t="t" r="r" b="b"/>
              <a:pathLst>
                <a:path w="440" h="389">
                  <a:moveTo>
                    <a:pt x="440" y="0"/>
                  </a:moveTo>
                  <a:lnTo>
                    <a:pt x="440" y="389"/>
                  </a:lnTo>
                  <a:lnTo>
                    <a:pt x="0" y="38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5190840" y="3002040"/>
              <a:ext cx="54468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73880" y="2783520"/>
              <a:ext cx="331560" cy="327960"/>
            </a:xfrm>
            <a:prstGeom prst="hexagon">
              <a:avLst>
                <a:gd name="adj" fmla="val 9773"/>
                <a:gd name="vf" fmla="val 115470"/>
              </a:avLst>
            </a:prstGeom>
            <a:solidFill>
              <a:srgbClr val="66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550200" y="2758680"/>
              <a:ext cx="331560" cy="327960"/>
            </a:xfrm>
            <a:prstGeom prst="hexagon">
              <a:avLst>
                <a:gd name="adj" fmla="val 9773"/>
                <a:gd name="vf" fmla="val 115470"/>
              </a:avLst>
            </a:prstGeom>
            <a:solidFill>
              <a:srgbClr val="66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>
            <a:hlinkClick r:id="rId1"/>
          </p:cNvPr>
          <p:cNvSpPr/>
          <p:nvPr/>
        </p:nvSpPr>
        <p:spPr>
          <a:xfrm>
            <a:off x="7101000" y="6056640"/>
            <a:ext cx="1600200" cy="455400"/>
          </a:xfrm>
          <a:prstGeom prst="rightArrow">
            <a:avLst>
              <a:gd name="adj1" fmla="val 50000"/>
              <a:gd name="adj2" fmla="val 87846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iehe au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aktische Relevanz der Entscheidungsfreiheit I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353880" y="3338640"/>
            <a:ext cx="3430800" cy="15746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tra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ntwerf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5873760" y="3706200"/>
            <a:ext cx="484200" cy="245880"/>
          </a:xfrm>
          <a:custGeom>
            <a:avLst/>
            <a:gdLst/>
            <a:ahLst/>
            <a:rect l="l" t="t" r="r" b="b"/>
            <a:pathLst>
              <a:path w="440" h="389">
                <a:moveTo>
                  <a:pt x="440" y="0"/>
                </a:moveTo>
                <a:lnTo>
                  <a:pt x="440" y="389"/>
                </a:lnTo>
                <a:lnTo>
                  <a:pt x="0" y="3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4143240" y="3568680"/>
            <a:ext cx="1779840" cy="2761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trag prüf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flipV="1">
            <a:off x="2258280" y="3944160"/>
            <a:ext cx="360360" cy="360360"/>
          </a:xfrm>
          <a:prstGeom prst="diamond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 rot="5400000">
            <a:off x="3182040" y="2973600"/>
            <a:ext cx="222120" cy="1710000"/>
          </a:xfrm>
          <a:custGeom>
            <a:avLst/>
            <a:gdLst/>
            <a:ahLst/>
            <a:rect l="l" t="t" r="r" b="b"/>
            <a:pathLst>
              <a:path w="440" h="389">
                <a:moveTo>
                  <a:pt x="440" y="0"/>
                </a:moveTo>
                <a:lnTo>
                  <a:pt x="440" y="389"/>
                </a:lnTo>
                <a:lnTo>
                  <a:pt x="0" y="3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1796760" y="4138560"/>
            <a:ext cx="444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65320" y="3549240"/>
            <a:ext cx="530640" cy="327960"/>
          </a:xfrm>
          <a:prstGeom prst="hexagon">
            <a:avLst>
              <a:gd name="adj" fmla="val 15641"/>
              <a:gd name="vf" fmla="val 115470"/>
            </a:avLst>
          </a:prstGeom>
          <a:solidFill>
            <a:srgbClr val="66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7062840" y="3869640"/>
            <a:ext cx="1355760" cy="512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trag abschließ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6176160" y="3944160"/>
            <a:ext cx="360360" cy="360360"/>
          </a:xfrm>
          <a:prstGeom prst="diamond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444760" y="4293360"/>
            <a:ext cx="3917880" cy="366840"/>
          </a:xfrm>
          <a:custGeom>
            <a:avLst/>
            <a:gdLst/>
            <a:ahLst/>
            <a:rect l="l" t="t" r="r" b="b"/>
            <a:pathLst>
              <a:path w="2468" h="231">
                <a:moveTo>
                  <a:pt x="0" y="214"/>
                </a:moveTo>
                <a:lnTo>
                  <a:pt x="0" y="0"/>
                </a:lnTo>
                <a:lnTo>
                  <a:pt x="2468" y="0"/>
                </a:lnTo>
                <a:lnTo>
                  <a:pt x="2468" y="23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519960" y="4137120"/>
            <a:ext cx="54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17480" y="2202840"/>
            <a:ext cx="2343240" cy="352440"/>
          </a:xfrm>
          <a:prstGeom prst="ellipse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achbearbeiter [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05120" y="2557440"/>
            <a:ext cx="0" cy="76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3287880" y="2203560"/>
            <a:ext cx="5037120" cy="1341360"/>
            <a:chOff x="3287880" y="2203560"/>
            <a:chExt cx="5037120" cy="1341360"/>
          </a:xfrm>
        </p:grpSpPr>
        <p:sp>
          <p:nvSpPr>
            <p:cNvPr id="636" name=""/>
            <p:cNvSpPr/>
            <p:nvPr/>
          </p:nvSpPr>
          <p:spPr>
            <a:xfrm flipH="1" flipV="1">
              <a:off x="5644800" y="2733120"/>
              <a:ext cx="360360" cy="360360"/>
            </a:xfrm>
            <a:prstGeom prst="diamond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287880" y="2203560"/>
              <a:ext cx="2343240" cy="352440"/>
            </a:xfrm>
            <a:prstGeom prst="ellipse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Sachbearbeiter 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981760" y="2203560"/>
              <a:ext cx="2343240" cy="352440"/>
            </a:xfrm>
            <a:prstGeom prst="ellipse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Sachbearbeiter [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019920" y="2568600"/>
              <a:ext cx="1217520" cy="344520"/>
            </a:xfrm>
            <a:custGeom>
              <a:avLst/>
              <a:gdLst/>
              <a:ahLst/>
              <a:rect l="l" t="t" r="r" b="b"/>
              <a:pathLst>
                <a:path w="440" h="389">
                  <a:moveTo>
                    <a:pt x="440" y="0"/>
                  </a:moveTo>
                  <a:lnTo>
                    <a:pt x="440" y="389"/>
                  </a:lnTo>
                  <a:lnTo>
                    <a:pt x="0" y="38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4338720" y="2568600"/>
              <a:ext cx="1316160" cy="368280"/>
            </a:xfrm>
            <a:custGeom>
              <a:avLst/>
              <a:gdLst/>
              <a:ahLst/>
              <a:rect l="l" t="t" r="r" b="b"/>
              <a:pathLst>
                <a:path w="440" h="389">
                  <a:moveTo>
                    <a:pt x="440" y="0"/>
                  </a:moveTo>
                  <a:lnTo>
                    <a:pt x="440" y="389"/>
                  </a:lnTo>
                  <a:lnTo>
                    <a:pt x="0" y="389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5190840" y="3002040"/>
              <a:ext cx="54468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673880" y="2783520"/>
              <a:ext cx="331560" cy="327960"/>
            </a:xfrm>
            <a:prstGeom prst="hexagon">
              <a:avLst>
                <a:gd name="adj" fmla="val 9773"/>
                <a:gd name="vf" fmla="val 115470"/>
              </a:avLst>
            </a:prstGeom>
            <a:solidFill>
              <a:srgbClr val="66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50200" y="2758680"/>
              <a:ext cx="331560" cy="327960"/>
            </a:xfrm>
            <a:prstGeom prst="hexagon">
              <a:avLst>
                <a:gd name="adj" fmla="val 9773"/>
                <a:gd name="vf" fmla="val 115470"/>
              </a:avLst>
            </a:prstGeom>
            <a:solidFill>
              <a:srgbClr val="66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Vagheit bei sozio-technischen Systemen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828800" y="1066680"/>
            <a:ext cx="7010280" cy="541044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knowled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981080" y="5334120"/>
            <a:ext cx="678204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chdatenbank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648320" y="6019920"/>
            <a:ext cx="2041560" cy="304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chwissen (cont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55960" y="2133720"/>
            <a:ext cx="1244520" cy="990360"/>
          </a:xfrm>
          <a:prstGeom prst="roundRect">
            <a:avLst>
              <a:gd name="adj" fmla="val 12315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els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ch-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antwortba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2666880" y="312372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04920" y="2133720"/>
            <a:ext cx="1447560" cy="2133360"/>
          </a:xfrm>
          <a:custGeom>
            <a:avLst/>
            <a:gdLst>
              <a:gd name="textAreaLeft" fmla="*/ 24840 w 1447560"/>
              <a:gd name="textAreaRight" fmla="*/ 1422720 w 1447560"/>
              <a:gd name="textAreaTop" fmla="*/ 24840 h 2133360"/>
              <a:gd name="textAreaBottom" fmla="*/ 2108520 h 2133360"/>
            </a:gdLst>
            <a:ahLst/>
            <a:rect l="textAreaLeft" t="textAreaTop" r="textAreaRight" b="textAreaBottom"/>
            <a:pathLst>
              <a:path w="21600" h="31831">
                <a:moveTo>
                  <a:pt x="1271" y="0"/>
                </a:moveTo>
                <a:arcTo wR="1271" hR="1271" stAng="16200000" swAng="-5400000"/>
                <a:lnTo>
                  <a:pt x="0" y="30560"/>
                </a:lnTo>
                <a:arcTo wR="1271" hR="1271" stAng="10800000" swAng="-5400000"/>
                <a:lnTo>
                  <a:pt x="20329" y="31831"/>
                </a:lnTo>
                <a:arcTo wR="1271" hR="1271" stAng="5400000" swAng="-5400000"/>
                <a:lnTo>
                  <a:pt x="21600" y="1271"/>
                </a:lnTo>
                <a:arcTo wR="1271" hR="1271" stAng="0" swAng="-5400000"/>
                <a:close/>
              </a:path>
            </a:pathLst>
          </a:cu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69720" y="2560680"/>
            <a:ext cx="1165320" cy="472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ösung su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0880" y="3429000"/>
            <a:ext cx="1143000" cy="609480"/>
          </a:xfrm>
          <a:prstGeom prst="roundRect">
            <a:avLst>
              <a:gd name="adj" fmla="val 458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twor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wer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3880" y="281952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066680" y="1600200"/>
            <a:ext cx="0" cy="573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18960" y="1287360"/>
            <a:ext cx="1123920" cy="30204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tzer[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858000" y="3733920"/>
            <a:ext cx="304920" cy="30456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172200" y="47242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twort abspeich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010280" y="40384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010280" y="502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81680" y="4245120"/>
            <a:ext cx="381240" cy="250560"/>
          </a:xfrm>
          <a:prstGeom prst="hexagon">
            <a:avLst>
              <a:gd name="adj" fmla="val 38039"/>
              <a:gd name="vf" fmla="val 115470"/>
            </a:avLst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5029200" y="3200400"/>
            <a:ext cx="0" cy="2822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4422600" y="3733920"/>
            <a:ext cx="301680" cy="304560"/>
            <a:chOff x="4422600" y="3733920"/>
            <a:chExt cx="301680" cy="304560"/>
          </a:xfrm>
        </p:grpSpPr>
        <p:sp>
          <p:nvSpPr>
            <p:cNvPr id="663" name=""/>
            <p:cNvSpPr/>
            <p:nvPr/>
          </p:nvSpPr>
          <p:spPr>
            <a:xfrm flipV="1">
              <a:off x="4422600" y="3733920"/>
              <a:ext cx="301680" cy="304560"/>
            </a:xfrm>
            <a:prstGeom prst="diamond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97840" y="3809880"/>
              <a:ext cx="1508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4497480" y="3809880"/>
              <a:ext cx="15084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4572000" y="32767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259160" y="2767320"/>
            <a:ext cx="2078280" cy="4726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B-basierte Antw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ulti-medial präsentie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29988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505320" y="2895480"/>
            <a:ext cx="533160" cy="208080"/>
          </a:xfrm>
          <a:prstGeom prst="hexagon">
            <a:avLst>
              <a:gd name="adj" fmla="val 64057"/>
              <a:gd name="vf" fmla="val 115470"/>
            </a:avLst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523880" y="3809880"/>
            <a:ext cx="2895840" cy="76320"/>
          </a:xfrm>
          <a:custGeom>
            <a:avLst/>
            <a:gdLst/>
            <a:ahLst/>
            <a:rect l="l" t="t" r="r" b="b"/>
            <a:pathLst>
              <a:path w="1824" h="48">
                <a:moveTo>
                  <a:pt x="1824" y="48"/>
                </a:moveTo>
                <a:lnTo>
                  <a:pt x="768" y="48"/>
                </a:lnTo>
                <a:lnTo>
                  <a:pt x="720" y="0"/>
                </a:lnTo>
                <a:lnTo>
                  <a:pt x="624" y="48"/>
                </a:lnTo>
                <a:lnTo>
                  <a:pt x="0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276720" y="24066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05320" y="2303640"/>
            <a:ext cx="533160" cy="207720"/>
          </a:xfrm>
          <a:prstGeom prst="hexagon">
            <a:avLst>
              <a:gd name="adj" fmla="val 64168"/>
              <a:gd name="vf" fmla="val 115470"/>
            </a:avLst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724280" y="2895480"/>
            <a:ext cx="2286000" cy="990720"/>
          </a:xfrm>
          <a:custGeom>
            <a:avLst/>
            <a:gdLst/>
            <a:ahLst/>
            <a:rect l="l" t="t" r="r" b="b"/>
            <a:pathLst>
              <a:path w="1440" h="624">
                <a:moveTo>
                  <a:pt x="1440" y="0"/>
                </a:moveTo>
                <a:lnTo>
                  <a:pt x="1440" y="624"/>
                </a:lnTo>
                <a:lnTo>
                  <a:pt x="672" y="624"/>
                </a:lnTo>
                <a:lnTo>
                  <a:pt x="618" y="616"/>
                </a:lnTo>
                <a:lnTo>
                  <a:pt x="576" y="624"/>
                </a:lnTo>
                <a:lnTo>
                  <a:pt x="240" y="624"/>
                </a:lnTo>
                <a:lnTo>
                  <a:pt x="192" y="576"/>
                </a:lnTo>
                <a:lnTo>
                  <a:pt x="144" y="624"/>
                </a:lnTo>
                <a:lnTo>
                  <a:pt x="0" y="6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15200" y="3162240"/>
            <a:ext cx="1447920" cy="118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satz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91520" y="3505320"/>
            <a:ext cx="1295280" cy="2286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chbü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91520" y="3809880"/>
            <a:ext cx="1295280" cy="2286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zeichn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8077320" y="2895120"/>
            <a:ext cx="38088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848720" y="4114440"/>
            <a:ext cx="365040" cy="402120"/>
            <a:chOff x="7848720" y="4114440"/>
            <a:chExt cx="365040" cy="402120"/>
          </a:xfrm>
        </p:grpSpPr>
        <p:sp>
          <p:nvSpPr>
            <p:cNvPr id="679" name=""/>
            <p:cNvSpPr/>
            <p:nvPr/>
          </p:nvSpPr>
          <p:spPr>
            <a:xfrm>
              <a:off x="7848720" y="4149720"/>
              <a:ext cx="365040" cy="366840"/>
            </a:xfrm>
            <a:prstGeom prst="blockArc">
              <a:avLst>
                <a:gd name="adj1" fmla="val 10800000"/>
                <a:gd name="adj2" fmla="val 0"/>
                <a:gd name="adj3" fmla="val 4974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943760" y="4114440"/>
              <a:ext cx="15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428840" y="1463760"/>
            <a:ext cx="1128600" cy="669960"/>
          </a:xfrm>
          <a:custGeom>
            <a:avLst/>
            <a:gdLst/>
            <a:ahLst/>
            <a:rect l="l" t="t" r="r" b="b"/>
            <a:pathLst>
              <a:path w="711" h="422">
                <a:moveTo>
                  <a:pt x="0" y="0"/>
                </a:moveTo>
                <a:lnTo>
                  <a:pt x="711" y="0"/>
                </a:lnTo>
                <a:lnTo>
                  <a:pt x="711" y="42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267080" y="2143440"/>
            <a:ext cx="1441440" cy="4726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e Frage veröffentli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651120" y="1304640"/>
            <a:ext cx="1140120" cy="30204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utzer[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233960" y="1604880"/>
            <a:ext cx="536400" cy="528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7832520" y="4727160"/>
            <a:ext cx="1011600" cy="302040"/>
            <a:chOff x="7832520" y="4727160"/>
            <a:chExt cx="1011600" cy="302040"/>
          </a:xfrm>
        </p:grpSpPr>
        <p:sp>
          <p:nvSpPr>
            <p:cNvPr id="686" name=""/>
            <p:cNvSpPr/>
            <p:nvPr/>
          </p:nvSpPr>
          <p:spPr>
            <a:xfrm>
              <a:off x="8213760" y="4727160"/>
              <a:ext cx="630360" cy="302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7832520" y="4886280"/>
              <a:ext cx="36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8083440" y="2882880"/>
            <a:ext cx="762120" cy="762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670880" y="3936960"/>
            <a:ext cx="761760" cy="7621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603840" y="3987720"/>
            <a:ext cx="762120" cy="7621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610320" y="4000680"/>
            <a:ext cx="762120" cy="7617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4724280" y="1143000"/>
            <a:ext cx="3886200" cy="2743200"/>
            <a:chOff x="4724280" y="1143000"/>
            <a:chExt cx="3886200" cy="2743200"/>
          </a:xfrm>
        </p:grpSpPr>
        <p:grpSp>
          <p:nvGrpSpPr>
            <p:cNvPr id="693" name=""/>
            <p:cNvGrpSpPr/>
            <p:nvPr/>
          </p:nvGrpSpPr>
          <p:grpSpPr>
            <a:xfrm>
              <a:off x="6629400" y="1143000"/>
              <a:ext cx="1971720" cy="1490760"/>
              <a:chOff x="6629400" y="1143000"/>
              <a:chExt cx="1971720" cy="1490760"/>
            </a:xfrm>
          </p:grpSpPr>
          <p:sp>
            <p:nvSpPr>
              <p:cNvPr id="694" name=""/>
              <p:cNvSpPr/>
              <p:nvPr/>
            </p:nvSpPr>
            <p:spPr>
              <a:xfrm>
                <a:off x="7315200" y="2057400"/>
                <a:ext cx="0" cy="57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629400" y="1143000"/>
                <a:ext cx="1971720" cy="990720"/>
              </a:xfrm>
              <a:prstGeom prst="ellipse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Exper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10280" y="1600200"/>
                <a:ext cx="1219320" cy="380880"/>
              </a:xfrm>
              <a:prstGeom prst="rect">
                <a:avLst/>
              </a:prstGeom>
              <a:solidFill>
                <a:srgbClr val="66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Kompetenz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077320" y="1828800"/>
                <a:ext cx="0" cy="787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915240" y="2206800"/>
                <a:ext cx="777960" cy="250560"/>
              </a:xfrm>
              <a:prstGeom prst="hexagon">
                <a:avLst>
                  <a:gd name="adj" fmla="val 39328"/>
                  <a:gd name="vf" fmla="val 115470"/>
                </a:avLst>
              </a:prstGeom>
              <a:solidFill>
                <a:srgbClr val="ccff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Bis 8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4724280" y="1323720"/>
              <a:ext cx="3886200" cy="2562480"/>
              <a:chOff x="4724280" y="1323720"/>
              <a:chExt cx="3886200" cy="2562480"/>
            </a:xfrm>
          </p:grpSpPr>
          <p:sp>
            <p:nvSpPr>
              <p:cNvPr id="700" name=""/>
              <p:cNvSpPr/>
              <p:nvPr/>
            </p:nvSpPr>
            <p:spPr>
              <a:xfrm>
                <a:off x="5686560" y="2438280"/>
                <a:ext cx="1095120" cy="228600"/>
              </a:xfrm>
              <a:custGeom>
                <a:avLst/>
                <a:gdLst/>
                <a:ahLst/>
                <a:rect l="l" t="t" r="r" b="b"/>
                <a:pathLst>
                  <a:path w="690" h="144">
                    <a:moveTo>
                      <a:pt x="0" y="0"/>
                    </a:moveTo>
                    <a:lnTo>
                      <a:pt x="562" y="0"/>
                    </a:lnTo>
                    <a:lnTo>
                      <a:pt x="690" y="1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724280" y="2895480"/>
                <a:ext cx="2286000" cy="990720"/>
              </a:xfrm>
              <a:custGeom>
                <a:avLst/>
                <a:gdLst/>
                <a:ahLst/>
                <a:rect l="l" t="t" r="r" b="b"/>
                <a:pathLst>
                  <a:path w="1440" h="624">
                    <a:moveTo>
                      <a:pt x="1440" y="0"/>
                    </a:moveTo>
                    <a:lnTo>
                      <a:pt x="1440" y="624"/>
                    </a:lnTo>
                    <a:lnTo>
                      <a:pt x="672" y="624"/>
                    </a:lnTo>
                    <a:lnTo>
                      <a:pt x="618" y="616"/>
                    </a:lnTo>
                    <a:lnTo>
                      <a:pt x="576" y="624"/>
                    </a:lnTo>
                    <a:lnTo>
                      <a:pt x="240" y="624"/>
                    </a:lnTo>
                    <a:lnTo>
                      <a:pt x="192" y="576"/>
                    </a:lnTo>
                    <a:lnTo>
                      <a:pt x="144" y="624"/>
                    </a:lnTo>
                    <a:lnTo>
                      <a:pt x="0" y="62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781680" y="2641680"/>
                <a:ext cx="1828800" cy="253800"/>
              </a:xfrm>
              <a:prstGeom prst="roundRect">
                <a:avLst>
                  <a:gd name="adj" fmla="val 16667"/>
                </a:avLst>
              </a:prstGeom>
              <a:solidFill>
                <a:srgbClr val="ffff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Antwort erteil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122800" y="1323720"/>
                <a:ext cx="1123920" cy="302040"/>
              </a:xfrm>
              <a:prstGeom prst="ellipse">
                <a:avLst/>
              </a:prstGeom>
              <a:solidFill>
                <a:srgbClr val="ff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Nutzer[2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899320" y="1639800"/>
                <a:ext cx="1002960" cy="1005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9720" y="1304640"/>
            <a:ext cx="7772400" cy="3328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Technische Konzepte prägen häufig das Verständnis sozialer Syst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Technische Entwurfsmethoden prägen oft die Entwicklung sozialer Syst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Betriebswirtschaftliche Modellierungsmethoden domin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66"/>
                </a:solidFill>
                <a:latin typeface="Arial"/>
              </a:rPr>
              <a:t>Die Einführung informationstechnischer Systeme verändert soziale und organisatorische Strukturen und Proze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5095800"/>
            <a:ext cx="750744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Dieser Einflussnahme ist eine Reflektion und alternative Gestaltungsansätzen gegenüber zu stel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5245200" y="696960"/>
            <a:ext cx="3593880" cy="584208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knowled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21320" y="5334120"/>
            <a:ext cx="3241800" cy="884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chdatenbank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734080" y="5594400"/>
            <a:ext cx="2762280" cy="36504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chliche Beschreibung (cont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07600" y="558720"/>
            <a:ext cx="4226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Beispiele für gegebene Unvollständigke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858000" y="3733920"/>
            <a:ext cx="304920" cy="30456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172200" y="47242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twort abspeich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10280" y="40384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10280" y="502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81680" y="4245120"/>
            <a:ext cx="381240" cy="250560"/>
          </a:xfrm>
          <a:prstGeom prst="hexagon">
            <a:avLst>
              <a:gd name="adj" fmla="val 38039"/>
              <a:gd name="vf" fmla="val 115470"/>
            </a:avLst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315200" y="20574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81680" y="2362320"/>
            <a:ext cx="1447920" cy="5331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tw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tei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629400" y="939960"/>
            <a:ext cx="1971720" cy="119376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pe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966000" y="1374840"/>
            <a:ext cx="1219320" cy="38088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peten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91320" y="2895480"/>
            <a:ext cx="1218960" cy="990720"/>
          </a:xfrm>
          <a:custGeom>
            <a:avLst/>
            <a:gdLst/>
            <a:ahLst/>
            <a:rect l="l" t="t" r="r" b="b"/>
            <a:pathLst>
              <a:path w="768" h="624">
                <a:moveTo>
                  <a:pt x="768" y="0"/>
                </a:moveTo>
                <a:lnTo>
                  <a:pt x="768" y="624"/>
                </a:lnTo>
                <a:lnTo>
                  <a:pt x="0" y="6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281640" y="2664000"/>
            <a:ext cx="500040" cy="2880"/>
          </a:xfrm>
          <a:custGeom>
            <a:avLst/>
            <a:gdLst/>
            <a:ahLst/>
            <a:rect l="l" t="t" r="r" b="b"/>
            <a:pathLst>
              <a:path w="315" h="2">
                <a:moveTo>
                  <a:pt x="0" y="0"/>
                </a:moveTo>
                <a:lnTo>
                  <a:pt x="315" y="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1400" bIns="-414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77320" y="1614600"/>
            <a:ext cx="0" cy="747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315200" y="3162240"/>
            <a:ext cx="1447920" cy="118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satz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91520" y="3505320"/>
            <a:ext cx="1295280" cy="2286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chbü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391520" y="3809880"/>
            <a:ext cx="1295280" cy="2286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zeichn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8077320" y="2895120"/>
            <a:ext cx="38088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7848720" y="4114440"/>
            <a:ext cx="365040" cy="402120"/>
            <a:chOff x="7848720" y="4114440"/>
            <a:chExt cx="365040" cy="402120"/>
          </a:xfrm>
        </p:grpSpPr>
        <p:sp>
          <p:nvSpPr>
            <p:cNvPr id="726" name=""/>
            <p:cNvSpPr/>
            <p:nvPr/>
          </p:nvSpPr>
          <p:spPr>
            <a:xfrm>
              <a:off x="7848720" y="4149720"/>
              <a:ext cx="365040" cy="366840"/>
            </a:xfrm>
            <a:prstGeom prst="blockArc">
              <a:avLst>
                <a:gd name="adj1" fmla="val 10800000"/>
                <a:gd name="adj2" fmla="val 0"/>
                <a:gd name="adj3" fmla="val 4974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43760" y="4114440"/>
              <a:ext cx="15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5292720" y="1323720"/>
            <a:ext cx="1515960" cy="1057680"/>
            <a:chOff x="5292720" y="1323720"/>
            <a:chExt cx="1515960" cy="1057680"/>
          </a:xfrm>
        </p:grpSpPr>
        <p:sp>
          <p:nvSpPr>
            <p:cNvPr id="729" name=""/>
            <p:cNvSpPr/>
            <p:nvPr/>
          </p:nvSpPr>
          <p:spPr>
            <a:xfrm>
              <a:off x="5292720" y="1323720"/>
              <a:ext cx="1123920" cy="302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utzer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068880" y="1639800"/>
              <a:ext cx="739800" cy="74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7832520" y="4727160"/>
            <a:ext cx="1011600" cy="302040"/>
            <a:chOff x="7832520" y="4727160"/>
            <a:chExt cx="1011600" cy="302040"/>
          </a:xfrm>
        </p:grpSpPr>
        <p:sp>
          <p:nvSpPr>
            <p:cNvPr id="732" name=""/>
            <p:cNvSpPr/>
            <p:nvPr/>
          </p:nvSpPr>
          <p:spPr>
            <a:xfrm>
              <a:off x="8213760" y="4727160"/>
              <a:ext cx="630360" cy="302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7832520" y="4886280"/>
              <a:ext cx="36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7674120" y="3903840"/>
            <a:ext cx="761760" cy="7617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8096400" y="6014880"/>
            <a:ext cx="365040" cy="422280"/>
            <a:chOff x="8096400" y="6014880"/>
            <a:chExt cx="365040" cy="422280"/>
          </a:xfrm>
        </p:grpSpPr>
        <p:sp>
          <p:nvSpPr>
            <p:cNvPr id="736" name=""/>
            <p:cNvSpPr/>
            <p:nvPr/>
          </p:nvSpPr>
          <p:spPr>
            <a:xfrm>
              <a:off x="8096400" y="6014880"/>
              <a:ext cx="365040" cy="422280"/>
            </a:xfrm>
            <a:prstGeom prst="blockArc">
              <a:avLst>
                <a:gd name="adj1" fmla="val 10800000"/>
                <a:gd name="adj2" fmla="val 0"/>
                <a:gd name="adj3" fmla="val 4974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229240" y="6033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361800" y="4363920"/>
            <a:ext cx="1981440" cy="1703880"/>
            <a:chOff x="361800" y="4363920"/>
            <a:chExt cx="1981440" cy="1703880"/>
          </a:xfrm>
        </p:grpSpPr>
        <p:sp>
          <p:nvSpPr>
            <p:cNvPr id="739" name=""/>
            <p:cNvSpPr/>
            <p:nvPr/>
          </p:nvSpPr>
          <p:spPr>
            <a:xfrm>
              <a:off x="361800" y="4602240"/>
              <a:ext cx="1981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odellierer hat Zweifel an der Richtigkeit / Gültigkeit der Spezifik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433440" y="4363920"/>
              <a:ext cx="365040" cy="433440"/>
              <a:chOff x="433440" y="4363920"/>
              <a:chExt cx="365040" cy="433440"/>
            </a:xfrm>
          </p:grpSpPr>
          <p:sp>
            <p:nvSpPr>
              <p:cNvPr id="741" name=""/>
              <p:cNvSpPr/>
              <p:nvPr/>
            </p:nvSpPr>
            <p:spPr>
              <a:xfrm>
                <a:off x="433440" y="4375080"/>
                <a:ext cx="365040" cy="422280"/>
              </a:xfrm>
              <a:prstGeom prst="blockArc">
                <a:avLst>
                  <a:gd name="adj1" fmla="val 10800000"/>
                  <a:gd name="adj2" fmla="val 0"/>
                  <a:gd name="adj3" fmla="val 49745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50440" y="4363920"/>
                <a:ext cx="140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3" name=""/>
          <p:cNvGrpSpPr/>
          <p:nvPr/>
        </p:nvGrpSpPr>
        <p:grpSpPr>
          <a:xfrm>
            <a:off x="361800" y="1525680"/>
            <a:ext cx="2714400" cy="2291760"/>
            <a:chOff x="361800" y="1525680"/>
            <a:chExt cx="2714400" cy="2291760"/>
          </a:xfrm>
        </p:grpSpPr>
        <p:grpSp>
          <p:nvGrpSpPr>
            <p:cNvPr id="744" name=""/>
            <p:cNvGrpSpPr/>
            <p:nvPr/>
          </p:nvGrpSpPr>
          <p:grpSpPr>
            <a:xfrm>
              <a:off x="493920" y="1525680"/>
              <a:ext cx="393480" cy="431640"/>
              <a:chOff x="493920" y="1525680"/>
              <a:chExt cx="393480" cy="431640"/>
            </a:xfrm>
          </p:grpSpPr>
          <p:sp>
            <p:nvSpPr>
              <p:cNvPr id="745" name=""/>
              <p:cNvSpPr/>
              <p:nvPr/>
            </p:nvSpPr>
            <p:spPr>
              <a:xfrm>
                <a:off x="493920" y="1590480"/>
                <a:ext cx="393480" cy="366840"/>
              </a:xfrm>
              <a:prstGeom prst="blockArc">
                <a:avLst>
                  <a:gd name="adj1" fmla="val 10800000"/>
                  <a:gd name="adj2" fmla="val 0"/>
                  <a:gd name="adj3" fmla="val 49745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81400" y="1525680"/>
                <a:ext cx="192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361800" y="1803240"/>
              <a:ext cx="27144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odellierer erkennt, dass die Spezifikation unvollständig ist, aber er ist  nicht in der Lage, die notwendigen weiteren Information anzugeb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5245200" y="696960"/>
            <a:ext cx="3593880" cy="57960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knowled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21320" y="5334120"/>
            <a:ext cx="3241800" cy="884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chdatenbank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34080" y="5594400"/>
            <a:ext cx="2762280" cy="36504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chliche Beschreibung (cont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65040" y="757080"/>
            <a:ext cx="4618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Intentionale </a:t>
            </a:r>
            <a:br>
              <a:rPr sz="2400"/>
            </a:b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Unvollständigke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58000" y="3733920"/>
            <a:ext cx="304920" cy="30456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172200" y="47242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twort abspeich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010280" y="40384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10280" y="502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781680" y="4245120"/>
            <a:ext cx="381240" cy="250560"/>
          </a:xfrm>
          <a:prstGeom prst="hexagon">
            <a:avLst>
              <a:gd name="adj" fmla="val 38039"/>
              <a:gd name="vf" fmla="val 115470"/>
            </a:avLst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315200" y="20574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781680" y="2362320"/>
            <a:ext cx="1447920" cy="5331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tw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rtei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29400" y="939960"/>
            <a:ext cx="1971720" cy="1193760"/>
          </a:xfrm>
          <a:prstGeom prst="ellipse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xpe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6000" y="1374840"/>
            <a:ext cx="1219320" cy="38088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mpeten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791320" y="2895480"/>
            <a:ext cx="1218960" cy="990720"/>
          </a:xfrm>
          <a:custGeom>
            <a:avLst/>
            <a:gdLst/>
            <a:ahLst/>
            <a:rect l="l" t="t" r="r" b="b"/>
            <a:pathLst>
              <a:path w="768" h="624">
                <a:moveTo>
                  <a:pt x="768" y="0"/>
                </a:moveTo>
                <a:lnTo>
                  <a:pt x="768" y="624"/>
                </a:lnTo>
                <a:lnTo>
                  <a:pt x="0" y="6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281640" y="2664000"/>
            <a:ext cx="500040" cy="2880"/>
          </a:xfrm>
          <a:custGeom>
            <a:avLst/>
            <a:gdLst/>
            <a:ahLst/>
            <a:rect l="l" t="t" r="r" b="b"/>
            <a:pathLst>
              <a:path w="315" h="2">
                <a:moveTo>
                  <a:pt x="0" y="0"/>
                </a:moveTo>
                <a:lnTo>
                  <a:pt x="315" y="2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1400" bIns="-414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077320" y="1614600"/>
            <a:ext cx="0" cy="747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315200" y="3162240"/>
            <a:ext cx="1447920" cy="118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usatz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391520" y="3505320"/>
            <a:ext cx="1295280" cy="2286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achbü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391520" y="3809880"/>
            <a:ext cx="1295280" cy="228600"/>
          </a:xfrm>
          <a:prstGeom prst="rect">
            <a:avLst/>
          </a:pr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fzeichn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 flipV="1">
            <a:off x="8077320" y="2895120"/>
            <a:ext cx="38088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7848720" y="4114440"/>
            <a:ext cx="365040" cy="402120"/>
            <a:chOff x="7848720" y="4114440"/>
            <a:chExt cx="365040" cy="402120"/>
          </a:xfrm>
        </p:grpSpPr>
        <p:sp>
          <p:nvSpPr>
            <p:cNvPr id="769" name=""/>
            <p:cNvSpPr/>
            <p:nvPr/>
          </p:nvSpPr>
          <p:spPr>
            <a:xfrm>
              <a:off x="7848720" y="4149720"/>
              <a:ext cx="365040" cy="366840"/>
            </a:xfrm>
            <a:prstGeom prst="blockArc">
              <a:avLst>
                <a:gd name="adj1" fmla="val 10800000"/>
                <a:gd name="adj2" fmla="val 0"/>
                <a:gd name="adj3" fmla="val 4974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943760" y="4114440"/>
              <a:ext cx="15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5292720" y="1323720"/>
            <a:ext cx="1515960" cy="1057680"/>
            <a:chOff x="5292720" y="1323720"/>
            <a:chExt cx="1515960" cy="1057680"/>
          </a:xfrm>
        </p:grpSpPr>
        <p:sp>
          <p:nvSpPr>
            <p:cNvPr id="772" name=""/>
            <p:cNvSpPr/>
            <p:nvPr/>
          </p:nvSpPr>
          <p:spPr>
            <a:xfrm>
              <a:off x="5292720" y="1323720"/>
              <a:ext cx="1123920" cy="302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utzer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068880" y="1639800"/>
              <a:ext cx="739800" cy="74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7832520" y="4727160"/>
            <a:ext cx="1011600" cy="302040"/>
            <a:chOff x="7832520" y="4727160"/>
            <a:chExt cx="1011600" cy="302040"/>
          </a:xfrm>
        </p:grpSpPr>
        <p:sp>
          <p:nvSpPr>
            <p:cNvPr id="775" name=""/>
            <p:cNvSpPr/>
            <p:nvPr/>
          </p:nvSpPr>
          <p:spPr>
            <a:xfrm>
              <a:off x="8213760" y="4727160"/>
              <a:ext cx="630360" cy="302040"/>
            </a:xfrm>
            <a:prstGeom prst="ellipse">
              <a:avLst/>
            </a:prstGeom>
            <a:solidFill>
              <a:srgbClr val="ff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d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832520" y="4886280"/>
              <a:ext cx="369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7" name=""/>
          <p:cNvSpPr/>
          <p:nvPr/>
        </p:nvSpPr>
        <p:spPr>
          <a:xfrm>
            <a:off x="7932600" y="5732640"/>
            <a:ext cx="762120" cy="7617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8158320" y="5985000"/>
            <a:ext cx="365040" cy="422280"/>
            <a:chOff x="8158320" y="5985000"/>
            <a:chExt cx="365040" cy="422280"/>
          </a:xfrm>
        </p:grpSpPr>
        <p:sp>
          <p:nvSpPr>
            <p:cNvPr id="779" name=""/>
            <p:cNvSpPr/>
            <p:nvPr/>
          </p:nvSpPr>
          <p:spPr>
            <a:xfrm>
              <a:off x="8158320" y="5985000"/>
              <a:ext cx="365040" cy="422280"/>
            </a:xfrm>
            <a:prstGeom prst="blockArc">
              <a:avLst>
                <a:gd name="adj1" fmla="val 10800000"/>
                <a:gd name="adj2" fmla="val 0"/>
                <a:gd name="adj3" fmla="val 4974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345520" y="600408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7308720" y="3143160"/>
            <a:ext cx="1447920" cy="1514520"/>
            <a:chOff x="7308720" y="3143160"/>
            <a:chExt cx="1447920" cy="1514520"/>
          </a:xfrm>
        </p:grpSpPr>
        <p:grpSp>
          <p:nvGrpSpPr>
            <p:cNvPr id="782" name=""/>
            <p:cNvGrpSpPr/>
            <p:nvPr/>
          </p:nvGrpSpPr>
          <p:grpSpPr>
            <a:xfrm>
              <a:off x="7308720" y="3143160"/>
              <a:ext cx="1447920" cy="1360440"/>
              <a:chOff x="7308720" y="3143160"/>
              <a:chExt cx="1447920" cy="1360440"/>
            </a:xfrm>
          </p:grpSpPr>
          <p:sp>
            <p:nvSpPr>
              <p:cNvPr id="783" name=""/>
              <p:cNvSpPr/>
              <p:nvPr/>
            </p:nvSpPr>
            <p:spPr>
              <a:xfrm>
                <a:off x="7308720" y="3143160"/>
                <a:ext cx="1447920" cy="11811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Zusatzinf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848720" y="4137120"/>
                <a:ext cx="365040" cy="366480"/>
              </a:xfrm>
              <a:prstGeom prst="blockArc">
                <a:avLst>
                  <a:gd name="adj1" fmla="val 10800000"/>
                  <a:gd name="adj2" fmla="val 0"/>
                  <a:gd name="adj3" fmla="val 49745"/>
                </a:avLst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7647120" y="3895560"/>
              <a:ext cx="761760" cy="76212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8134200" y="5989680"/>
            <a:ext cx="365040" cy="422280"/>
            <a:chOff x="8134200" y="5989680"/>
            <a:chExt cx="365040" cy="422280"/>
          </a:xfrm>
        </p:grpSpPr>
        <p:sp>
          <p:nvSpPr>
            <p:cNvPr id="787" name=""/>
            <p:cNvSpPr/>
            <p:nvPr/>
          </p:nvSpPr>
          <p:spPr>
            <a:xfrm>
              <a:off x="8134200" y="5989680"/>
              <a:ext cx="365040" cy="422280"/>
            </a:xfrm>
            <a:prstGeom prst="blockArc">
              <a:avLst>
                <a:gd name="adj1" fmla="val 10800000"/>
                <a:gd name="adj2" fmla="val 0"/>
                <a:gd name="adj3" fmla="val 4974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271360" y="600840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√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7070760" y="6278400"/>
            <a:ext cx="365040" cy="422280"/>
            <a:chOff x="7070760" y="6278400"/>
            <a:chExt cx="365040" cy="422280"/>
          </a:xfrm>
        </p:grpSpPr>
        <p:sp>
          <p:nvSpPr>
            <p:cNvPr id="790" name=""/>
            <p:cNvSpPr/>
            <p:nvPr/>
          </p:nvSpPr>
          <p:spPr>
            <a:xfrm>
              <a:off x="7070760" y="6278400"/>
              <a:ext cx="365040" cy="422280"/>
            </a:xfrm>
            <a:prstGeom prst="blockArc">
              <a:avLst>
                <a:gd name="adj1" fmla="val 10800000"/>
                <a:gd name="adj2" fmla="val 0"/>
                <a:gd name="adj3" fmla="val 4974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257960" y="629748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6858000" y="6095880"/>
            <a:ext cx="723960" cy="666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885960" y="5065560"/>
            <a:ext cx="3103560" cy="1510920"/>
            <a:chOff x="885960" y="5065560"/>
            <a:chExt cx="3103560" cy="1510920"/>
          </a:xfrm>
        </p:grpSpPr>
        <p:sp>
          <p:nvSpPr>
            <p:cNvPr id="794" name=""/>
            <p:cNvSpPr/>
            <p:nvPr/>
          </p:nvSpPr>
          <p:spPr>
            <a:xfrm>
              <a:off x="885960" y="5659560"/>
              <a:ext cx="1981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it Sicherheit vollständig spezifizie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85960" y="5065560"/>
              <a:ext cx="3103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6" name=""/>
            <p:cNvGrpSpPr/>
            <p:nvPr/>
          </p:nvGrpSpPr>
          <p:grpSpPr>
            <a:xfrm>
              <a:off x="885960" y="5369040"/>
              <a:ext cx="365040" cy="433440"/>
              <a:chOff x="885960" y="5369040"/>
              <a:chExt cx="365040" cy="433440"/>
            </a:xfrm>
          </p:grpSpPr>
          <p:sp>
            <p:nvSpPr>
              <p:cNvPr id="797" name=""/>
              <p:cNvSpPr/>
              <p:nvPr/>
            </p:nvSpPr>
            <p:spPr>
              <a:xfrm>
                <a:off x="885960" y="5380200"/>
                <a:ext cx="365040" cy="422280"/>
              </a:xfrm>
              <a:prstGeom prst="blockArc">
                <a:avLst>
                  <a:gd name="adj1" fmla="val 10800000"/>
                  <a:gd name="adj2" fmla="val 0"/>
                  <a:gd name="adj3" fmla="val 49745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009800" y="5369040"/>
                <a:ext cx="1256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√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9" name=""/>
          <p:cNvGrpSpPr/>
          <p:nvPr/>
        </p:nvGrpSpPr>
        <p:grpSpPr>
          <a:xfrm>
            <a:off x="7308720" y="3143160"/>
            <a:ext cx="1447920" cy="1514520"/>
            <a:chOff x="7308720" y="3143160"/>
            <a:chExt cx="1447920" cy="1514520"/>
          </a:xfrm>
        </p:grpSpPr>
        <p:grpSp>
          <p:nvGrpSpPr>
            <p:cNvPr id="800" name=""/>
            <p:cNvGrpSpPr/>
            <p:nvPr/>
          </p:nvGrpSpPr>
          <p:grpSpPr>
            <a:xfrm>
              <a:off x="7308720" y="3143160"/>
              <a:ext cx="1447920" cy="1360440"/>
              <a:chOff x="7308720" y="3143160"/>
              <a:chExt cx="1447920" cy="1360440"/>
            </a:xfrm>
          </p:grpSpPr>
          <p:sp>
            <p:nvSpPr>
              <p:cNvPr id="801" name=""/>
              <p:cNvSpPr/>
              <p:nvPr/>
            </p:nvSpPr>
            <p:spPr>
              <a:xfrm>
                <a:off x="7308720" y="3143160"/>
                <a:ext cx="1447920" cy="11811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Zusatzinf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848720" y="4137120"/>
                <a:ext cx="365040" cy="366480"/>
              </a:xfrm>
              <a:prstGeom prst="blockArc">
                <a:avLst>
                  <a:gd name="adj1" fmla="val 10800000"/>
                  <a:gd name="adj2" fmla="val 0"/>
                  <a:gd name="adj3" fmla="val 49745"/>
                </a:avLst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>
              <a:off x="7647120" y="3895560"/>
              <a:ext cx="761760" cy="76212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885960" y="3465360"/>
            <a:ext cx="1981080" cy="1365840"/>
            <a:chOff x="885960" y="3465360"/>
            <a:chExt cx="1981080" cy="1365840"/>
          </a:xfrm>
        </p:grpSpPr>
        <p:sp>
          <p:nvSpPr>
            <p:cNvPr id="805" name=""/>
            <p:cNvSpPr/>
            <p:nvPr/>
          </p:nvSpPr>
          <p:spPr>
            <a:xfrm>
              <a:off x="885960" y="3639960"/>
              <a:ext cx="19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Weitere Spezifikation durch Mausklick erreichb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915840" y="3465360"/>
              <a:ext cx="365400" cy="366840"/>
            </a:xfrm>
            <a:prstGeom prst="blockArc">
              <a:avLst>
                <a:gd name="adj1" fmla="val 10800000"/>
                <a:gd name="adj2" fmla="val 0"/>
                <a:gd name="adj3" fmla="val 49745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900000" y="1741320"/>
            <a:ext cx="1981080" cy="1489680"/>
            <a:chOff x="900000" y="1741320"/>
            <a:chExt cx="1981080" cy="1489680"/>
          </a:xfrm>
        </p:grpSpPr>
        <p:sp>
          <p:nvSpPr>
            <p:cNvPr id="808" name=""/>
            <p:cNvSpPr/>
            <p:nvPr/>
          </p:nvSpPr>
          <p:spPr>
            <a:xfrm>
              <a:off x="900000" y="2039760"/>
              <a:ext cx="19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Weitere Spezifikation möglich, aber hier irrelev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944280" y="1741320"/>
              <a:ext cx="365040" cy="433440"/>
              <a:chOff x="944280" y="1741320"/>
              <a:chExt cx="365040" cy="433440"/>
            </a:xfrm>
          </p:grpSpPr>
          <p:sp>
            <p:nvSpPr>
              <p:cNvPr id="810" name=""/>
              <p:cNvSpPr/>
              <p:nvPr/>
            </p:nvSpPr>
            <p:spPr>
              <a:xfrm>
                <a:off x="944280" y="1752480"/>
                <a:ext cx="365040" cy="422280"/>
              </a:xfrm>
              <a:prstGeom prst="blockArc">
                <a:avLst>
                  <a:gd name="adj1" fmla="val 10800000"/>
                  <a:gd name="adj2" fmla="val 0"/>
                  <a:gd name="adj3" fmla="val 49745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131480" y="174132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2" name=""/>
          <p:cNvGrpSpPr/>
          <p:nvPr/>
        </p:nvGrpSpPr>
        <p:grpSpPr>
          <a:xfrm>
            <a:off x="7456320" y="1905120"/>
            <a:ext cx="365040" cy="422280"/>
            <a:chOff x="7456320" y="1905120"/>
            <a:chExt cx="365040" cy="422280"/>
          </a:xfrm>
        </p:grpSpPr>
        <p:sp>
          <p:nvSpPr>
            <p:cNvPr id="813" name=""/>
            <p:cNvSpPr/>
            <p:nvPr/>
          </p:nvSpPr>
          <p:spPr>
            <a:xfrm>
              <a:off x="7456320" y="1905120"/>
              <a:ext cx="365040" cy="422280"/>
            </a:xfrm>
            <a:prstGeom prst="blockArc">
              <a:avLst>
                <a:gd name="adj1" fmla="val 10800000"/>
                <a:gd name="adj2" fmla="val 0"/>
                <a:gd name="adj3" fmla="val 49745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93480" y="192384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√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 flipH="1">
            <a:off x="7353000" y="1822320"/>
            <a:ext cx="579240" cy="579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353360" y="1820880"/>
            <a:ext cx="579240" cy="579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ystematische Unvollständigkeit – oder „Wie elementar sind Elemente?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>
            <a:hlinkClick r:id="rId1" action="ppaction://hlinksldjump"/>
          </p:cNvPr>
          <p:cNvSpPr/>
          <p:nvPr/>
        </p:nvSpPr>
        <p:spPr>
          <a:xfrm>
            <a:off x="1047600" y="2050920"/>
            <a:ext cx="1995480" cy="10270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151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ame der Aktivitä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3544920" y="2160720"/>
            <a:ext cx="4249800" cy="1027080"/>
            <a:chOff x="3544920" y="2160720"/>
            <a:chExt cx="4249800" cy="1027080"/>
          </a:xfrm>
        </p:grpSpPr>
        <p:sp>
          <p:nvSpPr>
            <p:cNvPr id="820" name="">
              <a:hlinkClick r:id="rId2" action="ppaction://hlinksldjump"/>
            </p:cNvPr>
            <p:cNvSpPr/>
            <p:nvPr/>
          </p:nvSpPr>
          <p:spPr>
            <a:xfrm>
              <a:off x="5799240" y="2160720"/>
              <a:ext cx="1995480" cy="102708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Name der Aktivitä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>
              <a:hlinkClick r:id="rId3" action="ppaction://hlinksldjump"/>
            </p:cNvPr>
            <p:cNvSpPr/>
            <p:nvPr/>
          </p:nvSpPr>
          <p:spPr>
            <a:xfrm>
              <a:off x="3544920" y="2368800"/>
              <a:ext cx="1752480" cy="612720"/>
            </a:xfrm>
            <a:custGeom>
              <a:avLst/>
              <a:gdLst>
                <a:gd name="textAreaLeft" fmla="*/ 0 w 1752480"/>
                <a:gd name="textAreaRight" fmla="*/ 1752840 w 17524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Abkürz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365040" y="4495680"/>
            <a:ext cx="83901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Fehlende Spezifizierung von Sub-Elementen ist bei Modellen von Systemen immer willkürl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1866960" y="2867040"/>
            <a:ext cx="403200" cy="403200"/>
          </a:xfrm>
          <a:prstGeom prst="blockArc">
            <a:avLst>
              <a:gd name="adj1" fmla="val 0"/>
              <a:gd name="adj2" fmla="val 10800000"/>
              <a:gd name="adj3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Multi-Perspektivitä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68360" y="1108080"/>
            <a:ext cx="3355920" cy="454500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au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rundfläche; Höh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ei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57360" y="3368520"/>
            <a:ext cx="730080" cy="374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t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31000" y="19620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intei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15600" y="3070080"/>
            <a:ext cx="10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austof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484200" y="1936800"/>
            <a:ext cx="3354480" cy="2355840"/>
            <a:chOff x="484200" y="1936800"/>
            <a:chExt cx="3354480" cy="2355840"/>
          </a:xfrm>
        </p:grpSpPr>
        <p:sp>
          <p:nvSpPr>
            <p:cNvPr id="830" name=""/>
            <p:cNvSpPr/>
            <p:nvPr/>
          </p:nvSpPr>
          <p:spPr>
            <a:xfrm>
              <a:off x="484200" y="1936800"/>
              <a:ext cx="335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84200" y="3017880"/>
              <a:ext cx="335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84200" y="4292640"/>
              <a:ext cx="335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684360" y="2300400"/>
            <a:ext cx="1479240" cy="37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achgesch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637000" y="2052720"/>
            <a:ext cx="1058760" cy="37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ohne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37000" y="2552760"/>
            <a:ext cx="1058760" cy="374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e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57360" y="3825720"/>
            <a:ext cx="730080" cy="374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t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646280" y="3368520"/>
            <a:ext cx="730080" cy="374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ol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646280" y="3827520"/>
            <a:ext cx="730080" cy="374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637000" y="3368520"/>
            <a:ext cx="1071360" cy="374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unstst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84360" y="4462560"/>
            <a:ext cx="1589040" cy="37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schäftsha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637000" y="4462560"/>
            <a:ext cx="1077840" cy="37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ohnha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646280" y="5045040"/>
            <a:ext cx="1589040" cy="374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erienha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448160" y="1751040"/>
            <a:ext cx="4307040" cy="3020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SeeMe erlaubt eine Zerlegung von Elementen nach verschiedenen Perspekt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Zwang zur einseitigen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Hierarchisierung wird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vermi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Es ist stets eine weitere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Zerlegung denk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Modell De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95360" y="1128600"/>
            <a:ext cx="5900760" cy="484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 Modell ist: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e kommunizierbare Abbildung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es Realitätsausschnittes zur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weckgebundenen Komplexitätsreduk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kussierung a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s Essenti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die Struktur oder den Proz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Problem des Dualism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strakte Phänom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Meta-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11120" y="1431720"/>
            <a:ext cx="591336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e sind durch Modelle beschreibbar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Meta-Syste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11120" y="2901960"/>
            <a:ext cx="5913360" cy="1922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ysteme höherer Ordnung beinhalten ein Modell von sich selbst </a:t>
            </a:r>
            <a:r>
              <a:rPr b="0" lang="de-D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lbstreferenz und Autopoies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genetische Code, Programm, Gesetz, Ritu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11120" y="5151600"/>
            <a:ext cx="5913360" cy="946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n-Systeme können diese Meta-Relation reflekt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7262640" y="1055520"/>
            <a:ext cx="1292400" cy="2008440"/>
            <a:chOff x="7262640" y="1055520"/>
            <a:chExt cx="1292400" cy="2008440"/>
          </a:xfrm>
        </p:grpSpPr>
        <p:grpSp>
          <p:nvGrpSpPr>
            <p:cNvPr id="851" name=""/>
            <p:cNvGrpSpPr/>
            <p:nvPr/>
          </p:nvGrpSpPr>
          <p:grpSpPr>
            <a:xfrm>
              <a:off x="7713720" y="1700280"/>
              <a:ext cx="390600" cy="1001520"/>
              <a:chOff x="7713720" y="1700280"/>
              <a:chExt cx="390600" cy="1001520"/>
            </a:xfrm>
          </p:grpSpPr>
          <p:sp>
            <p:nvSpPr>
              <p:cNvPr id="852" name="">
                <a:hlinkClick r:id="rId1" action="ppaction://hlinksldjump"/>
              </p:cNvPr>
              <p:cNvSpPr/>
              <p:nvPr/>
            </p:nvSpPr>
            <p:spPr>
              <a:xfrm>
                <a:off x="7713720" y="1700280"/>
                <a:ext cx="390600" cy="1001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>
                <a:hlinkClick r:id="rId2" action="ppaction://hlinksldjump"/>
              </p:cNvPr>
              <p:cNvSpPr/>
              <p:nvPr/>
            </p:nvSpPr>
            <p:spPr>
              <a:xfrm rot="5400000">
                <a:off x="7490520" y="2079360"/>
                <a:ext cx="861120" cy="233280"/>
              </a:xfrm>
              <a:custGeom>
                <a:avLst/>
                <a:gdLst/>
                <a:ahLst/>
                <a:rect l="l" t="t" r="r" b="b"/>
                <a:pathLst>
                  <a:path w="608" h="147">
                    <a:moveTo>
                      <a:pt x="0" y="88"/>
                    </a:moveTo>
                    <a:lnTo>
                      <a:pt x="93" y="88"/>
                    </a:lnTo>
                    <a:lnTo>
                      <a:pt x="149" y="7"/>
                    </a:lnTo>
                    <a:lnTo>
                      <a:pt x="204" y="147"/>
                    </a:lnTo>
                    <a:lnTo>
                      <a:pt x="262" y="0"/>
                    </a:lnTo>
                    <a:lnTo>
                      <a:pt x="316" y="134"/>
                    </a:lnTo>
                    <a:lnTo>
                      <a:pt x="376" y="3"/>
                    </a:lnTo>
                    <a:lnTo>
                      <a:pt x="410" y="88"/>
                    </a:lnTo>
                    <a:lnTo>
                      <a:pt x="608" y="95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7445520" y="2625840"/>
              <a:ext cx="927000" cy="43812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262640" y="1055520"/>
              <a:ext cx="1292400" cy="696960"/>
            </a:xfrm>
            <a:prstGeom prst="rect">
              <a:avLst/>
            </a:prstGeom>
            <a:solidFill>
              <a:srgbClr val="00ffff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Modell als Meta-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7016760" y="3648240"/>
            <a:ext cx="1660680" cy="2622240"/>
            <a:chOff x="7016760" y="3648240"/>
            <a:chExt cx="1660680" cy="2622240"/>
          </a:xfrm>
        </p:grpSpPr>
        <p:sp>
          <p:nvSpPr>
            <p:cNvPr id="857" name=""/>
            <p:cNvSpPr/>
            <p:nvPr/>
          </p:nvSpPr>
          <p:spPr>
            <a:xfrm>
              <a:off x="7016760" y="3648240"/>
              <a:ext cx="1660680" cy="260172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>
              <a:hlinkClick r:id="rId3" action="ppaction://hlinksldjump"/>
            </p:cNvPr>
            <p:cNvSpPr/>
            <p:nvPr/>
          </p:nvSpPr>
          <p:spPr>
            <a:xfrm rot="5400000">
              <a:off x="7443360" y="5722560"/>
              <a:ext cx="861840" cy="233640"/>
            </a:xfrm>
            <a:custGeom>
              <a:avLst/>
              <a:gdLst/>
              <a:ahLst/>
              <a:rect l="l" t="t" r="r" b="b"/>
              <a:pathLst>
                <a:path w="608" h="147">
                  <a:moveTo>
                    <a:pt x="0" y="88"/>
                  </a:moveTo>
                  <a:lnTo>
                    <a:pt x="93" y="88"/>
                  </a:lnTo>
                  <a:lnTo>
                    <a:pt x="149" y="7"/>
                  </a:lnTo>
                  <a:lnTo>
                    <a:pt x="204" y="147"/>
                  </a:lnTo>
                  <a:lnTo>
                    <a:pt x="262" y="0"/>
                  </a:lnTo>
                  <a:lnTo>
                    <a:pt x="316" y="134"/>
                  </a:lnTo>
                  <a:lnTo>
                    <a:pt x="376" y="3"/>
                  </a:lnTo>
                  <a:lnTo>
                    <a:pt x="410" y="88"/>
                  </a:lnTo>
                  <a:lnTo>
                    <a:pt x="608" y="9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16920" y="4699080"/>
              <a:ext cx="1292040" cy="696960"/>
            </a:xfrm>
            <a:prstGeom prst="rect">
              <a:avLst/>
            </a:prstGeom>
            <a:solidFill>
              <a:srgbClr val="ffffff"/>
            </a:solidFill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Modell als Meta-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Technische vs. soziale Kontrol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5040" y="5121360"/>
            <a:ext cx="839016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Statt der Frage nach der Mensch-Maschine-Funktionsteilung  wird die Frage drängender, wo technische und wo soziale Kontrolle stattfindet und wie sie zusammenwirk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50640" y="1858680"/>
            <a:ext cx="3809880" cy="278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Arial"/>
              </a:rPr>
              <a:t>Elektronische Steuerung des Verkeh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Arial"/>
              </a:rPr>
              <a:t>Völlige elektronische Überwachung des Zahlungsverkeh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Arial"/>
              </a:rPr>
              <a:t>Electronic-Ba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66"/>
                </a:solidFill>
                <a:latin typeface="Arial"/>
              </a:rPr>
              <a:t>Workflow-Management-Syste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770360" y="1859040"/>
            <a:ext cx="3810240" cy="2757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dnungskrä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dividuelle und kollektive Verwahrung anonymer Zahlungsmit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-Präse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ppenarbeit, Projektstruk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ision I: Modelle machen sozio-technische Systeme reflektierb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34800" y="1463760"/>
            <a:ext cx="8390160" cy="5069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ozio-technische Systeme als integrales Phänomen (d.h. als Einheit gegenüber ihrer Umwelt!?) verstehen und modellieren, 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ie zu reflektieren und kritischen Diskursen zugänglich zu mach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as Verhältnis zwischen sozialer und technischer Kontrolle transparent zu ma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as Verhältnis zwischen formalen und informalen Prozessen und Strukturen zu fass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ie beherrschbar zu machen (beteiligen, schulen,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ie prospektiv evaluieren zu kö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ision II: Sozio-technische Systeme mit Modellen gestalt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79440" y="1674720"/>
            <a:ext cx="8389800" cy="4879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ziotechnische Informationssyste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wie z.B. spezielle Dienstleistungen oder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den künftig mit Hilfe semi-strukturierter Methoden konzipi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können Muster verwendet werden, zu denen fertige DV-Lösungen vorlie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mplementierung eines Konzeptes wird durch eine integrierte Methodologie unterstützt </a:t>
            </a:r>
            <a:r>
              <a:rPr b="0" lang="de-DE" sz="2400" spc="-1" strike="noStrike">
                <a:solidFill>
                  <a:srgbClr val="3333cc"/>
                </a:solidFill>
                <a:latin typeface="Arial"/>
              </a:rPr>
              <a:t>(Personalentwicklung und -auswahl, Informierung, Beteiligung, Schulung, Konfiguration der Technik, Re-Organisation, Erzeugung von Dokumenten,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03280" y="1390680"/>
            <a:ext cx="8143920" cy="394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zio-technische Systeme kombinieren menschliche Akteure in sozialen Systemen mit technischen Syste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wendung des Konzeptes in den 60er Jah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id Mumford, Tavistock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grierte Gestaltung v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k, Organisation und sozialen Fakto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ozio-technische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 System ist eine Einheit von Elemen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in Beziehung zueinander st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ziehungen bilden eine 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ziehungen und Elemente haben veränderbare Eigenschaften – die Beziehungen sind potentieller Na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ysteme können in Sub-Systeme zerleg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Einheit hat eine Grenze zur Umw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Allgemeine Definition von „System“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System vs. Umwe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36800" y="1692360"/>
            <a:ext cx="7391160" cy="47084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mwe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1880" y="3262320"/>
            <a:ext cx="394812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4920" y="3641760"/>
            <a:ext cx="394812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76560" y="3475080"/>
            <a:ext cx="394812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35200" y="3094200"/>
            <a:ext cx="3948120" cy="26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535200"/>
            <a:ext cx="1371600" cy="884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ub-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4054320"/>
            <a:ext cx="1371600" cy="8845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ub-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43400" y="3902040"/>
            <a:ext cx="34920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13360" y="4421160"/>
            <a:ext cx="3794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4437000"/>
            <a:ext cx="3794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38480" y="4892760"/>
            <a:ext cx="349200" cy="4111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97160" y="4938840"/>
            <a:ext cx="349560" cy="4111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5135400"/>
            <a:ext cx="59364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73440" y="4313160"/>
            <a:ext cx="60948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465800" y="4632120"/>
            <a:ext cx="4870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64160" y="3763800"/>
            <a:ext cx="944640" cy="290520"/>
          </a:xfrm>
          <a:custGeom>
            <a:avLst/>
            <a:gdLst/>
            <a:ahLst/>
            <a:rect l="l" t="t" r="r" b="b"/>
            <a:pathLst>
              <a:path w="595" h="183">
                <a:moveTo>
                  <a:pt x="0" y="0"/>
                </a:moveTo>
                <a:lnTo>
                  <a:pt x="585" y="0"/>
                </a:lnTo>
                <a:lnTo>
                  <a:pt x="595" y="18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25920" y="4632480"/>
            <a:ext cx="395280" cy="1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35400" y="1706400"/>
            <a:ext cx="0" cy="140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503280" y="1390680"/>
            <a:ext cx="8204040" cy="703800"/>
            <a:chOff x="503280" y="1390680"/>
            <a:chExt cx="8204040" cy="703800"/>
          </a:xfrm>
        </p:grpSpPr>
        <p:sp>
          <p:nvSpPr>
            <p:cNvPr id="122" name=""/>
            <p:cNvSpPr/>
            <p:nvPr/>
          </p:nvSpPr>
          <p:spPr>
            <a:xfrm>
              <a:off x="503280" y="1390680"/>
              <a:ext cx="3911400" cy="7038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Äquivalenz von Ursache und Wirk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95920" y="1403280"/>
              <a:ext cx="391140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stabile Gleichgewichtspunk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93560" y="2301840"/>
            <a:ext cx="8204400" cy="716400"/>
            <a:chOff x="493560" y="2301840"/>
            <a:chExt cx="8204400" cy="716400"/>
          </a:xfrm>
        </p:grpSpPr>
        <p:sp>
          <p:nvSpPr>
            <p:cNvPr id="125" name=""/>
            <p:cNvSpPr/>
            <p:nvPr/>
          </p:nvSpPr>
          <p:spPr>
            <a:xfrm>
              <a:off x="493560" y="2301840"/>
              <a:ext cx="3911760" cy="3988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ontinuitä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6200" y="2314440"/>
              <a:ext cx="3911760" cy="703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Möglichkeit sprunghafter Änderung (Emergenz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03280" y="3219480"/>
            <a:ext cx="8204040" cy="716040"/>
            <a:chOff x="503280" y="3219480"/>
            <a:chExt cx="8204040" cy="716040"/>
          </a:xfrm>
        </p:grpSpPr>
        <p:sp>
          <p:nvSpPr>
            <p:cNvPr id="128" name=""/>
            <p:cNvSpPr/>
            <p:nvPr/>
          </p:nvSpPr>
          <p:spPr>
            <a:xfrm>
              <a:off x="503280" y="3219480"/>
              <a:ext cx="3911400" cy="7038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Organismische Vorgänge sind mechanistisch erklärb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95920" y="3231720"/>
              <a:ext cx="3911400" cy="703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utonome Ordnungszustände, Selbstbezüglichke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47840" y="5032440"/>
            <a:ext cx="8204040" cy="716400"/>
            <a:chOff x="447840" y="5032440"/>
            <a:chExt cx="8204040" cy="716400"/>
          </a:xfrm>
        </p:grpSpPr>
        <p:sp>
          <p:nvSpPr>
            <p:cNvPr id="131" name=""/>
            <p:cNvSpPr/>
            <p:nvPr/>
          </p:nvSpPr>
          <p:spPr>
            <a:xfrm>
              <a:off x="447840" y="5032440"/>
              <a:ext cx="3911400" cy="3988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Elementaristische Auffassu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40480" y="5045040"/>
              <a:ext cx="3911400" cy="703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Neue Qualität des Ganzen gegenüber der Summe der Te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33440" y="6035760"/>
            <a:ext cx="8346600" cy="411480"/>
            <a:chOff x="433440" y="6035760"/>
            <a:chExt cx="8346600" cy="411480"/>
          </a:xfrm>
        </p:grpSpPr>
        <p:sp>
          <p:nvSpPr>
            <p:cNvPr id="134" name=""/>
            <p:cNvSpPr/>
            <p:nvPr/>
          </p:nvSpPr>
          <p:spPr>
            <a:xfrm>
              <a:off x="433440" y="6035760"/>
              <a:ext cx="3852000" cy="3988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Eine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Realitä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60920" y="6048360"/>
              <a:ext cx="411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onstruktivistische Annah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23720" y="2179800"/>
            <a:ext cx="843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4120" y="3147840"/>
            <a:ext cx="843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4959360"/>
            <a:ext cx="843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360" y="5924520"/>
            <a:ext cx="843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86400" y="1189080"/>
            <a:ext cx="0" cy="531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87720" y="1050840"/>
            <a:ext cx="2446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90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ystemtheoretischer Paradigmenwechsel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47840" y="4178160"/>
            <a:ext cx="8204040" cy="411480"/>
            <a:chOff x="447840" y="4178160"/>
            <a:chExt cx="8204040" cy="411480"/>
          </a:xfrm>
        </p:grpSpPr>
        <p:sp>
          <p:nvSpPr>
            <p:cNvPr id="144" name=""/>
            <p:cNvSpPr/>
            <p:nvPr/>
          </p:nvSpPr>
          <p:spPr>
            <a:xfrm>
              <a:off x="447840" y="4178160"/>
              <a:ext cx="3911400" cy="3988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euerung von auß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40480" y="4190760"/>
              <a:ext cx="391140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ontingente Interak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47760" y="4105440"/>
            <a:ext cx="843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flipH="1">
            <a:off x="4995720" y="988920"/>
            <a:ext cx="3603600" cy="19954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Natur-gegebene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Syst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0800" y="1108080"/>
            <a:ext cx="3603600" cy="19954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Künstliche Syste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(Techni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ystemtheoretischer Paradigmenwechs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47760" y="3017880"/>
            <a:ext cx="8512200" cy="3523320"/>
            <a:chOff x="347760" y="3017880"/>
            <a:chExt cx="8512200" cy="3523320"/>
          </a:xfrm>
        </p:grpSpPr>
        <p:grpSp>
          <p:nvGrpSpPr>
            <p:cNvPr id="151" name=""/>
            <p:cNvGrpSpPr/>
            <p:nvPr/>
          </p:nvGrpSpPr>
          <p:grpSpPr>
            <a:xfrm>
              <a:off x="503280" y="3150000"/>
              <a:ext cx="8204040" cy="344520"/>
              <a:chOff x="503280" y="3150000"/>
              <a:chExt cx="8204040" cy="344520"/>
            </a:xfrm>
          </p:grpSpPr>
          <p:sp>
            <p:nvSpPr>
              <p:cNvPr id="152" name=""/>
              <p:cNvSpPr/>
              <p:nvPr/>
            </p:nvSpPr>
            <p:spPr>
              <a:xfrm>
                <a:off x="503280" y="3150000"/>
                <a:ext cx="391140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Äquivalenz von Ursache und Wirku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95920" y="3157200"/>
                <a:ext cx="39114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Instabile Gleichgewichtspunk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93560" y="3748680"/>
              <a:ext cx="8204400" cy="587880"/>
              <a:chOff x="493560" y="3748680"/>
              <a:chExt cx="8204400" cy="587880"/>
            </a:xfrm>
          </p:grpSpPr>
          <p:sp>
            <p:nvSpPr>
              <p:cNvPr id="155" name=""/>
              <p:cNvSpPr/>
              <p:nvPr/>
            </p:nvSpPr>
            <p:spPr>
              <a:xfrm>
                <a:off x="493560" y="3748680"/>
                <a:ext cx="39117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Kontinuit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86200" y="3755880"/>
                <a:ext cx="391176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Möglichkeit sprunghafter Änderung (Emergenz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503280" y="4350240"/>
              <a:ext cx="8204040" cy="587520"/>
              <a:chOff x="503280" y="4350240"/>
              <a:chExt cx="8204040" cy="587520"/>
            </a:xfrm>
          </p:grpSpPr>
          <p:sp>
            <p:nvSpPr>
              <p:cNvPr id="158" name=""/>
              <p:cNvSpPr/>
              <p:nvPr/>
            </p:nvSpPr>
            <p:spPr>
              <a:xfrm>
                <a:off x="503280" y="4350240"/>
                <a:ext cx="391140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Organismische Vorgänge sind mechanistisch erklärba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5920" y="4357080"/>
                <a:ext cx="391140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Autonome Ordnungszu-stände, Selbstbezüglichkei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47840" y="5538960"/>
              <a:ext cx="8204040" cy="587880"/>
              <a:chOff x="447840" y="5538960"/>
              <a:chExt cx="8204040" cy="587880"/>
            </a:xfrm>
          </p:grpSpPr>
          <p:sp>
            <p:nvSpPr>
              <p:cNvPr id="161" name=""/>
              <p:cNvSpPr/>
              <p:nvPr/>
            </p:nvSpPr>
            <p:spPr>
              <a:xfrm>
                <a:off x="447840" y="5538960"/>
                <a:ext cx="391140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Elementaristische Auffassu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40480" y="5546160"/>
                <a:ext cx="391140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Neue Qualität des Ganzen gegenüber der Summe der Tei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33440" y="6195960"/>
              <a:ext cx="8346600" cy="345240"/>
              <a:chOff x="433440" y="6195960"/>
              <a:chExt cx="8346600" cy="345240"/>
            </a:xfrm>
          </p:grpSpPr>
          <p:sp>
            <p:nvSpPr>
              <p:cNvPr id="164" name=""/>
              <p:cNvSpPr/>
              <p:nvPr/>
            </p:nvSpPr>
            <p:spPr>
              <a:xfrm>
                <a:off x="433440" y="6195960"/>
                <a:ext cx="385200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Eine</a:t>
                </a: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 Realit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660920" y="6203880"/>
                <a:ext cx="411912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Konstruktivistische Annahm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423720" y="3667320"/>
              <a:ext cx="843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4120" y="4302360"/>
              <a:ext cx="84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7760" y="5490000"/>
              <a:ext cx="84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360" y="6122880"/>
              <a:ext cx="84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6400" y="3017880"/>
              <a:ext cx="0" cy="348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47840" y="4977720"/>
              <a:ext cx="8204040" cy="345240"/>
              <a:chOff x="447840" y="4977720"/>
              <a:chExt cx="8204040" cy="345240"/>
            </a:xfrm>
          </p:grpSpPr>
          <p:sp>
            <p:nvSpPr>
              <p:cNvPr id="172" name=""/>
              <p:cNvSpPr/>
              <p:nvPr/>
            </p:nvSpPr>
            <p:spPr>
              <a:xfrm>
                <a:off x="447840" y="4977720"/>
                <a:ext cx="391140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Steuerung von auß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0480" y="4985640"/>
                <a:ext cx="39114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Kontingente Interak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47760" y="4930200"/>
              <a:ext cx="843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95440" y="1407960"/>
            <a:ext cx="7772400" cy="484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ysteme, die autonom sind (operational und informational geschloss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nen Menschen in bestimmten Rollen miteinander interag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nschen interagieren intentional, sie weisen ihrem Verhalten Bedeutung zu --&gt; Bewussts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dentitätsbildung durch Wahrnehmung inter-individueller Unterschiede, Selbstreferenz und Abgrenzu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Selbst-)Bewusstsein basiert auf Kommunikation und Spr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oziale Systeme schaffen sich selbst ständig als Einheit neu (sie sind autopoietis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9280" y="43128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cc"/>
                </a:solidFill>
                <a:latin typeface="Arial"/>
              </a:rPr>
              <a:t>Soziale Syste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2T11:00:50Z</dcterms:created>
  <dc:creator>IundG</dc:creator>
  <dc:description/>
  <dc:language>en-US</dc:language>
  <cp:lastModifiedBy>Lus</cp:lastModifiedBy>
  <cp:lastPrinted>1998-10-14T11:28:00Z</cp:lastPrinted>
  <dcterms:modified xsi:type="dcterms:W3CDTF">2000-10-29T09:53:49Z</dcterms:modified>
  <cp:revision>56</cp:revision>
  <dc:subject/>
  <dc:title>Informatik und Gesellschaft</dc:title>
</cp:coreProperties>
</file>